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E7D-DBA8-49DF-B90C-B1757234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AAA-B933-4C36-8DF4-A9E7B06B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3A2-D5D7-4710-AC27-4ED188FB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B1D-504D-466C-8FD4-8962F58B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2684-900A-4329-8BC1-F3AC4C78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CB0-0CBD-4749-B16F-11C6AC0A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914-9FED-483B-BED0-94CA7B5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7D79-916E-4389-81D7-F45E85F1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F9A1-17EA-419A-91B9-8E134294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382F-DF14-485A-8072-5A501BE6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3EC-089B-4A84-89C3-965BAF0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341-02AB-46BB-9636-1A6E1B8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E58E-1F8D-4785-905C-CBFC4A4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5B4F-A9D3-4601-953F-6FA85F4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9A08-F1DE-41D4-BB3E-E2092AE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7844-1816-4328-95CE-6B1A8BE7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ECC-DAF6-479D-97BD-5296450A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29F-98FC-479A-A462-603725AA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136-CA38-421F-A2E4-C0E5FAC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AC2-C042-47DC-86D9-796833C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674-C56B-4340-927F-FC55720F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871-678C-4206-A35F-C0CE35D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1EA-B268-49EC-9B9B-AD0CEA2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5A7-4C1E-4423-B7C8-630B082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F64C-B03B-456A-B389-DA82EB45EC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FFD7-AE26-4AF8-B057-D1D5C79557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mpco.jp/filemaker.html" TargetMode="External"/><Relationship Id="rId2" Type="http://schemas.openxmlformats.org/officeDocument/2006/relationships/hyperlink" Target="http://www.impco.jp/filemaker.html" TargetMode="External"/><Relationship Id="rId3" Type="http://schemas.openxmlformats.org/officeDocument/2006/relationships/hyperlink" Target="http://www.impco.jp/filemaker.html" TargetMode="External"/><Relationship Id="rId4" Type="http://schemas.openxmlformats.org/officeDocument/2006/relationships/hyperlink" Target="http://www.impco.jp/filemaker.html" TargetMode="External"/><Relationship Id="rId5" Type="http://schemas.openxmlformats.org/officeDocument/2006/relationships/hyperlink" Target="http://www.impco.jp/filemaker.html" TargetMode="External"/><Relationship Id="rId6" Type="http://schemas.openxmlformats.org/officeDocument/2006/relationships/hyperlink" Target="http://www.impco.jp/filemaker.html" TargetMode="External"/><Relationship Id="rId7" Type="http://schemas.openxmlformats.org/officeDocument/2006/relationships/hyperlink" Target="http://www.impco.jp/filemaker.html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ileMaker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デモマニュアル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5373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月作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5805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株式会社　インターメディア・プランニン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leMaker Go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　インストール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38560" cy="431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4720" y="357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App Store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で、</a:t>
            </a:r>
            <a:r>
              <a:rPr b="1" lang="ja-JP" sz="1800" spc="-1" strike="noStrike">
                <a:solidFill>
                  <a:srgbClr val="003366"/>
                </a:solidFill>
                <a:latin typeface="Arial"/>
              </a:rPr>
              <a:t>FileMaker Go 12 for iPad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と検索すると、左画像のアプリが出ますので、それをインストールしてくださ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leMaker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プログラムインストール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005360"/>
            <a:ext cx="36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mpco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.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jp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filemaker</a:t>
            </a:r>
            <a:r>
              <a:rPr b="0" lang="ja-JP" sz="1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.html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に接続すると、インストールするファイルが選択できますので、必要なものを選択し、ボタンを押すと、インストールが始まり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インストール時は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zip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形式になっているので、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に送る前に、解凍、展開してください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421000"/>
            <a:ext cx="806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　インストールファイルは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zip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形式になっていますので、パソコンでのインストールを行い、インストールしたものを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iPad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へ転送してください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1403280" y="3357720"/>
            <a:ext cx="3457800" cy="3305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050920" y="3213000"/>
            <a:ext cx="208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インストールページ画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プログラムを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iPad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へ送る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409680" cy="343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464000" cy="3513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76360" y="5013360"/>
            <a:ext cx="1847880" cy="1085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76360" y="242100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プログラムを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に送るには、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iTunes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を使用します。もし、お持ちで無い場合は先にインストールをお願い致します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005360"/>
            <a:ext cx="8654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3284640"/>
            <a:ext cx="21600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860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をパソコンにつなぎ、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iTunes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を起動すると、左にデバイスが表示されますので、プログラムを入れたい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を選択し、上のタブから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App</a:t>
            </a:r>
            <a:r>
              <a:rPr b="0" lang="ja-JP" sz="1800" spc="-1" strike="noStrike">
                <a:solidFill>
                  <a:srgbClr val="003366"/>
                </a:solidFill>
                <a:latin typeface="Arial"/>
              </a:rPr>
              <a:t>を選択してくださ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542880" cy="295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 rot="2310000">
            <a:off x="1692000" y="4581000"/>
            <a:ext cx="433440" cy="287640"/>
          </a:xfrm>
          <a:prstGeom prst="rightArrow">
            <a:avLst>
              <a:gd name="adj1" fmla="val 50000"/>
              <a:gd name="adj2" fmla="val 3767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350028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プログラムを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iPad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へ送る②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4670640" cy="414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8000" y="4149720"/>
            <a:ext cx="331164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349360"/>
            <a:ext cx="331308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App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タブを開くと、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にインストールされているアプリが表示されますので、下のファイル共有から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FileMaker Go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を選び、下の追加ボタンを押し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・事務次官 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Advance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（販売大臣連動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・事務次官 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Advance</a:t>
            </a: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（顧客大臣連動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・＠レジ 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for iP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のうち、使用するものを選んで、追加してくださ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右の一覧に表示されれば、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への転送は完了です。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iPad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で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FileMaker Go</a:t>
            </a:r>
            <a:r>
              <a:rPr b="0" lang="ja-JP" sz="1600" spc="-1" strike="noStrike">
                <a:solidFill>
                  <a:srgbClr val="003366"/>
                </a:solidFill>
                <a:latin typeface="Arial"/>
              </a:rPr>
              <a:t>を開き、ファイルを確認してくださ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5661000"/>
            <a:ext cx="43200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742680" cy="20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56000" y="5229360"/>
            <a:ext cx="358920" cy="360360"/>
          </a:xfrm>
          <a:prstGeom prst="upArrow">
            <a:avLst>
              <a:gd name="adj1" fmla="val 50000"/>
              <a:gd name="adj2" fmla="val 251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6524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※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　ファイル名は変更せず、そのまま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iPad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</a:rPr>
              <a:t>に入れてくださ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6:40:47Z</dcterms:created>
  <dc:creator>acer01</dc:creator>
  <dc:description/>
  <dc:language>en-US</dc:language>
  <cp:lastModifiedBy>IMP</cp:lastModifiedBy>
  <dcterms:modified xsi:type="dcterms:W3CDTF">2013-05-28T06:23:59Z</dcterms:modified>
  <cp:revision>9</cp:revision>
  <dc:subject/>
  <dc:title>FileMaker デモマニュアル</dc:title>
</cp:coreProperties>
</file>