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AE5-B0A4-406E-AFFB-05E968C6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A6E-33FF-4010-AD39-A4FE452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10C-F526-4485-903F-9B5062F5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741-5E9F-4B67-9696-BE54F321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734-400D-4419-8165-963E949F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6A1-D7C8-42E7-9F48-998D2FBF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DD6-FD94-43CA-B0BB-3D19D0E3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342-7508-4409-A29A-A49ADB8E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CEF-8433-4376-B60D-46C576A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57B-99A7-4D82-9254-F836CFD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571-741B-470A-A5E7-83D03DAB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993-5576-437A-BA9F-540B51E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0573-B152-4084-A52C-5C1FC120F97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販売事務次官</a:t>
            </a:r>
            <a:br>
              <a:rPr sz="4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作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株式会社インターメディア・プランニ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Ver 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データ受信－照合できないデータ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01080" cy="4245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5445000"/>
            <a:ext cx="8424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もし、ハンディからデータを取り込んだ際、その日のデータがまだ入っていない場合は右の表には何も表示されませ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その場合はデータを取り込んでから照合処理を行っ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データ受信－照合できないデータ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028680" cy="416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27640" y="2349360"/>
            <a:ext cx="41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ハンディからデータを取り込んだ段階で買い上げデータが入っておらず、照合処理が行われなかった商品がある場合、データの受信画面上に表示が現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部分をクリックすると、先ほどの照合画面を開きますので、データを取り込んだ際はここをクリックして照合画面を開き、照合を行っ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844640"/>
            <a:ext cx="2448000" cy="57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348000" y="220500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ータ受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受信したデータを大臣に送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2463840" cy="338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8000" y="5157720"/>
            <a:ext cx="6913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受信したデータを大臣に送り、登録が完了すると、下の表示が上図（左）のようにな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の表示が上図（左）のようになったら大臣で売上伝票を確認してみ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図（右）のように登録されているはず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登録するデータが無い場合は、右図にあるメッセージボックスが表示され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292640"/>
            <a:ext cx="2448000" cy="433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2190600" cy="14716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843280" y="1197000"/>
            <a:ext cx="6300720" cy="3544920"/>
            <a:chOff x="2843280" y="1197000"/>
            <a:chExt cx="6300720" cy="3544920"/>
          </a:xfrm>
        </p:grpSpPr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2843280" y="1197000"/>
              <a:ext cx="6300720" cy="35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276720" y="2038320"/>
              <a:ext cx="533160" cy="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00440" y="2038320"/>
              <a:ext cx="533520" cy="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52800" y="1219320"/>
              <a:ext cx="360360" cy="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ータ受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受信データからバーコードを印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252396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00720" y="1844640"/>
            <a:ext cx="2638440" cy="172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4076640"/>
            <a:ext cx="82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バーコード印刷データをハンディから受信していると、①のメッセージボックスが表示されます。これで「はい」を選ぶとバーコードシールが印刷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但し、受信したデータがすべて【ハンディ用プリンタで印刷】が選択されていると②のメッセージボックスが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バーコード印刷データを受信していない場合は、③のメッセージボックスが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987640" y="1844640"/>
            <a:ext cx="3238560" cy="1724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800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データ受信－照合できないデータ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4265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55640" y="5734080"/>
            <a:ext cx="799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ハンディに買い上げデータが無い状態で入力したバーコード印刷データ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適切なデータを選択して、決定をすると印刷を実行します。適切なデータが見当たらない際は、そのまま決定を押してください。商品名を印字せずにバーコードのみを印刷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46536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設定画面ー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205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249228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852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3573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860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076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4292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4869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1577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5445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1484280"/>
            <a:ext cx="417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ハンディとの接続に使用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ポートを選択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横の検索ボタンを押すと、使用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ポートを検索し、表示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01336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大臣への商品登録に使用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買上ファイルの名前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し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使用でき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5445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500280"/>
            <a:ext cx="41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ハンディでの消費税の計算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端数処理方法を選択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381480"/>
            <a:ext cx="36036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3629160"/>
            <a:ext cx="36036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14720" y="3876840"/>
            <a:ext cx="36036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95640" y="4114800"/>
            <a:ext cx="36036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86280" y="4363920"/>
            <a:ext cx="360360" cy="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5160" y="5002200"/>
            <a:ext cx="25272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設定画面ー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7640" y="1916280"/>
            <a:ext cx="44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買上データの置いてあるフォルダを指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2349360"/>
            <a:ext cx="4465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ハンディから受信したデータを置くフォルダ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指定し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3141720"/>
            <a:ext cx="4465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ハンディに送信するファイルを置くフォルダ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指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4005360"/>
            <a:ext cx="4465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ハンディから受信したデータのバックアップ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保存しておくフォルダを指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4941720"/>
            <a:ext cx="4465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買上データのバックアップを保存してお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フォルダを指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5877000"/>
            <a:ext cx="45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※④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～⑧は、横の参照ボタンでフォルダ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一覧を表示し、選択することが出来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2205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249228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2852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3573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3860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4076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292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4869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51577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5445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5445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68360" y="1484280"/>
            <a:ext cx="3465360" cy="4525920"/>
            <a:chOff x="468360" y="1484280"/>
            <a:chExt cx="3465360" cy="452592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68360" y="1484280"/>
              <a:ext cx="34653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124080" y="3381480"/>
              <a:ext cx="360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3629160"/>
              <a:ext cx="360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14720" y="3876840"/>
              <a:ext cx="360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95640" y="4114800"/>
              <a:ext cx="360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86280" y="4363920"/>
              <a:ext cx="360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5160" y="5002200"/>
              <a:ext cx="2527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設定画面ー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1700280"/>
            <a:ext cx="417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大臣で登録した久留米花市場さん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仕入先コードを入力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仕入伝票では、このコード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登録された仕入先で登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357720"/>
            <a:ext cx="432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仕入伝票を作成する際の伝票種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選択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221000"/>
            <a:ext cx="432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⑪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変更した情報を設定ファイル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登録せずにメインメニュー画面に戻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5084640"/>
            <a:ext cx="432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⑫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変更した情報を設定ファイル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登録し、メインメニュー画面に戻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2205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249228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2852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3573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3860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4076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4292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4869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51577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5445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5445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8360" y="1484280"/>
            <a:ext cx="3465360" cy="4525920"/>
            <a:chOff x="468360" y="1484280"/>
            <a:chExt cx="3465360" cy="452592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468360" y="1484280"/>
              <a:ext cx="34653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124080" y="3381480"/>
              <a:ext cx="360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4080" y="3629160"/>
              <a:ext cx="360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14720" y="3876840"/>
              <a:ext cx="360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95640" y="4114800"/>
              <a:ext cx="36036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86280" y="4363920"/>
              <a:ext cx="360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5160" y="5002200"/>
              <a:ext cx="2527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961920" cy="69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47640" y="177336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スクトップの左図をダブルクリックして、販売事務次官を起動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5229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起動すると、販売大臣のどのデータを使用するか選択するため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ダイアログが出ますので、使用するデータを選択して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して下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050920" y="2708280"/>
            <a:ext cx="4681800" cy="2127240"/>
            <a:chOff x="2050920" y="2708280"/>
            <a:chExt cx="4681800" cy="212724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050920" y="2708280"/>
              <a:ext cx="468180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276720" y="3981600"/>
              <a:ext cx="685800" cy="82440"/>
            </a:xfrm>
            <a:prstGeom prst="rect">
              <a:avLst/>
            </a:prstGeom>
            <a:solidFill>
              <a:srgbClr val="00b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28840" y="3914640"/>
              <a:ext cx="17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ffffff"/>
                  </a:solidFill>
                  <a:latin typeface="Arial"/>
                </a:rPr>
                <a:t>フラワーショップ○○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インメニュ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1989000"/>
            <a:ext cx="45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データの送信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詳細は【③データ送信】に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2997360"/>
            <a:ext cx="45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データの受信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詳細は【④データ受信】に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4005360"/>
            <a:ext cx="45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設定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詳細は【⑤設定画面】に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508464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処理をすべて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26920" y="1773360"/>
            <a:ext cx="3029040" cy="4171680"/>
            <a:chOff x="826920" y="1773360"/>
            <a:chExt cx="3029040" cy="41716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3029040" cy="41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116000" y="249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16000" y="3573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6000" y="4797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16360" y="4797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39760" y="1905120"/>
              <a:ext cx="4320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9040" cy="4105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256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1844640"/>
            <a:ext cx="468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設定画面で指定したフォルダに置かれ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買上データを読み込み、大臣に商品登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仕入伝票登録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95640" y="3141720"/>
            <a:ext cx="468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ハンディに読み込んだ買上デー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担当者マスタなど、ハンディに必要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ファイル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4437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メインメニュー画面に戻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5084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処理をすべて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CSV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ファイルを読み込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2240280" cy="3057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2227320" cy="3095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4360" y="1268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読み込みの流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27640" y="2060640"/>
            <a:ext cx="2239920" cy="302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797360"/>
            <a:ext cx="251928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4797360"/>
            <a:ext cx="251928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4797360"/>
            <a:ext cx="251928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5300640"/>
            <a:ext cx="813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読み込むボタンを押すと、マウスカーソルが砂時計になり、下に現在の状況が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砂時計が消え、下の表示が③のようになったら読み込み処理は終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H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にマスタを送信す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390760" cy="324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27640" y="1628640"/>
            <a:ext cx="2400480" cy="324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59280" y="2637000"/>
            <a:ext cx="2906640" cy="1428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34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2205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26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581360"/>
            <a:ext cx="266364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4581360"/>
            <a:ext cx="266400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22936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マスタを送信するボタンを押すと、マウスカーソルが砂時計になり、下に現在の状況が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マスタを作成し、②でハンディにデータを送信します。③の状態になり、砂時計が消えたら送信は終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030480" cy="416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2276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141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4005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162864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ハンディから売上デー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バーコード印刷データを受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256536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ハンディから受信した売上データ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使用して大臣に売上伝票を作成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500280"/>
            <a:ext cx="446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ハンディから受信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バーコード印刷データを使用し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バーコードシールを発行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4941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メインメニュー画面に戻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558972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処理をすべて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データ受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データを受信す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60480" y="1781280"/>
            <a:ext cx="3030480" cy="416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516640"/>
            <a:ext cx="3240360" cy="50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2076480" cy="1724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0" y="400536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を受信するボタンを押すと、ハンディから売上データ、バーコード印刷データを受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がきちんと出来ると、左図のような表示になり、ハンディにデータが無かった際は、上図のようなメッセージボックスが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データ受信－照合できないデータ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551640" cy="3862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5229360"/>
            <a:ext cx="792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ハンディに買い上げデータが無い状態で入力したデータは、販売大臣にデータを送信する際にデータの照合が出来ないため、販売大臣に送ることが出来ませ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送信できないデータを上記画像の左の表で入力日付、時間、バーコードを表示していますので、選択し、上記画像の右の表に出てくる商品名から適切なデータを選択してください。選択すると、上画像のメッセージが表示され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35622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0:59:01Z</dcterms:created>
  <dc:creator>acer01</dc:creator>
  <dc:description/>
  <dc:language>en-US</dc:language>
  <cp:lastModifiedBy>IMP</cp:lastModifiedBy>
  <dcterms:modified xsi:type="dcterms:W3CDTF">2012-03-05T04:33:50Z</dcterms:modified>
  <cp:revision>7</cp:revision>
  <dc:subject/>
  <dc:title>販売事務次官 操作マニュアル</dc:title>
</cp:coreProperties>
</file>