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6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325-83D7-4C7F-997B-959BA528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8915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840120"/>
            <a:ext cx="8915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A39-C4EB-40C5-AFA5-5EC4FD7C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84012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384012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A0F-F525-45B4-9DBB-B0240BC9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34100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34100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84012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384012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384012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395-ECBC-45DF-90A3-54341591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1341000"/>
            <a:ext cx="8915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8915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72520" y="115920"/>
            <a:ext cx="936180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384012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341000"/>
            <a:ext cx="8915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A6C-96CB-4323-B51D-F7F2B16E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384012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840120"/>
            <a:ext cx="8915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8915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3840120"/>
            <a:ext cx="8915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84012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384012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134100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134100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384012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384012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3840120"/>
            <a:ext cx="28706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8915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7A4-A3F6-4020-8DEE-493A9C2F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9F1-6F8C-483A-BB60-6429BA8C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873-5A12-44AC-B252-26501215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2520" y="115920"/>
            <a:ext cx="936180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E73-5097-43FC-B5DA-CA027014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84012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B08-16F2-4B53-9C26-C65BD9A8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384012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156-0F67-47CC-B978-9B3163AA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341000"/>
            <a:ext cx="4350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840120"/>
            <a:ext cx="8915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326-4A73-4E8C-B5FC-48430B2D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341000"/>
            <a:ext cx="8915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2520" y="6597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D88A-5AAC-4439-874B-EFCF4DBC7ED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3920" y="6597360"/>
            <a:ext cx="31370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22760" y="6597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124C-B7D8-42AA-B887-7E607680F0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1440" y="549360"/>
            <a:ext cx="9361440" cy="142920"/>
          </a:xfrm>
          <a:prstGeom prst="rect">
            <a:avLst/>
          </a:prstGeom>
          <a:solidFill>
            <a:srgbClr val="99003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71440" y="6524640"/>
            <a:ext cx="9361440" cy="71280"/>
          </a:xfrm>
          <a:prstGeom prst="rect">
            <a:avLst/>
          </a:prstGeom>
          <a:solidFill>
            <a:srgbClr val="4d4d4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349000"/>
            <a:ext cx="84200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96920" y="5059440"/>
            <a:ext cx="23115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4756-E78D-4492-962C-A631A49B0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384360" y="4627440"/>
            <a:ext cx="31366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1440" y="3357720"/>
            <a:ext cx="9361440" cy="142560"/>
          </a:xfrm>
          <a:prstGeom prst="rect">
            <a:avLst/>
          </a:prstGeom>
          <a:solidFill>
            <a:srgbClr val="99003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349360"/>
            <a:ext cx="84200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 ＷＥＢ事務次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FileMaker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操作マニュアル 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81480" y="5478480"/>
            <a:ext cx="762120" cy="560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943600" y="57150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株式会社インターメディア・プランニン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609588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2012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月作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29600" y="3645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er 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8880" y="981000"/>
            <a:ext cx="6743880" cy="478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商品カタログ（商品登録）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68880" y="4941720"/>
            <a:ext cx="1728720" cy="28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8880" y="5013360"/>
            <a:ext cx="316872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89760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45240" y="2492280"/>
            <a:ext cx="20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ダブルクリックして商品を登録する際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後尾に追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するか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今選んでいる商品の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登録するか選択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登録した順番で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表示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4520" y="5805360"/>
            <a:ext cx="734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を登録した後に順番を変える場合は、このボタンを使用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リストから削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選ぶと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らその商品が削除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14488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6C5-1759-4BB4-82DC-0A92916E15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商品カタログ（商品詳細）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84880" y="1413000"/>
            <a:ext cx="34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商品を送るようにし、リストから商品を選んでダブルクリックすると、上の画面が開き、ここで商品名、部門、単価等の確認が出来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像は、大臣から持ってきたものを設定しますが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参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から他の画像を選択することも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8880" y="1125360"/>
            <a:ext cx="3697200" cy="4784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584520" y="3357720"/>
            <a:ext cx="36036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16160" y="3500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0520" y="5589720"/>
            <a:ext cx="3528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92520" y="501336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変更を行った際は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確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押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取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すと、変更を反映せずにこの画面を閉じ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F57-2C5E-469B-BDC1-5624E4D0FD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15800" y="907920"/>
            <a:ext cx="5381640" cy="2438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規定値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5800" y="3429000"/>
            <a:ext cx="9290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データ監視間隔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から出力されたデータを取り込む際に、何分間隔でデータを確認し、取り込むか指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データ削除日数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指定した日数よりも前のデータを、処理済のデータ一覧に表示しないよう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パス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グラムの置かれたフォルダを指定します。ここが正確に指定されていない場合、マスタファイルの更新、売上データの受信が正確に行われませ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担当者パスワード設定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上に担当者を設定する際、担当者ごとにパスワードを設定するか指定し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5800" y="595008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登録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ボタンを押すと、変更を反映します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閉じ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を押すと、反映せずに設定を終了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1520" y="1844640"/>
            <a:ext cx="2305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679-BFBE-4669-9E0F-56E8344DF4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大臣設定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00160" y="1557360"/>
            <a:ext cx="4572000" cy="3781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04880" y="2924280"/>
            <a:ext cx="1008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5000" y="3814920"/>
            <a:ext cx="1008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4520" y="1197000"/>
            <a:ext cx="4392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現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販売大臣で、現場をどれに割り当てているか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臣見積データ受信フォルダ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販売大臣で見積伝票データを出力した際、指定したフォルダをここで指定します。その下のファイル名の欄に、その際のファイル名を記述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見積データ出力フォルダ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入力された見積伝票データを、販売大臣用に変換したファイルを置く場所を指定します。ファイル名は、その際になんと言う名前で登録するか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5800" y="580536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登録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ボタンを押すと、変更を反映します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キャンセル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を押すと、反映せずに設定を終了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1DC-DA4D-4F67-908C-00F8D307E0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44520" y="907920"/>
            <a:ext cx="6264360" cy="44182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サーバ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60520" y="1844640"/>
            <a:ext cx="2971800" cy="1724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936880" y="357336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944880" y="1844640"/>
            <a:ext cx="2971800" cy="1724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12880" y="981000"/>
            <a:ext cx="647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0520" y="558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ーで処理を行うと、各メッセージが表示され、処理が完了すると更新しました、とメッセージが表示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673-0633-4D6B-BF50-F05E473523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サーバー―見積伝票更新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2880" y="4797360"/>
            <a:ext cx="936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見積のデータは、自動で取得してくることが出来ません。販売大臣で、見積伝票のデータを出力し、その出力されたデータを、事務次官で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leMaker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用に変換し、送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大臣のデータ出力の方法は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3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をご覧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44520" y="907920"/>
            <a:ext cx="4572000" cy="3781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49240" y="2274840"/>
            <a:ext cx="180036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9720" y="3165480"/>
            <a:ext cx="166680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0520" y="1989000"/>
            <a:ext cx="424800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808160" y="24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84880" y="213372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見積のデータは、大臣設定のこの場所で指定された場所から取得して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7F4-1D49-4EC9-B4CE-C3E69AB7A1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639800" y="765000"/>
            <a:ext cx="6854760" cy="4835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の受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5800" y="5516640"/>
            <a:ext cx="914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を受信すると、トップ画面が変わり、受信したデータを見ることが出来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の受信は、規定値で指定した時間ごとの受信と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今すぐ受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して受信する方法の二つ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39800" y="5084640"/>
            <a:ext cx="1009800" cy="432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78A7-72A4-4357-B286-DEDDCF0B01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00160" y="981000"/>
            <a:ext cx="4608360" cy="32497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詳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873600" y="1557360"/>
            <a:ext cx="5543280" cy="3922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60520" y="1557360"/>
            <a:ext cx="352872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773360"/>
            <a:ext cx="259236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5800" y="5445000"/>
            <a:ext cx="892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詳細を見たい伝票を選択してダブルクリックするか、下の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明細参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すと、その伝票の詳細を見ることが出来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ここで、担当者、伝票区分、倉庫、現場、数量、単価（仕入・売上時）の変更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49240" y="3933720"/>
            <a:ext cx="57492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836640"/>
            <a:ext cx="46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画面・処理に多少の違いはありますが、仕入・売上・倉庫振替・棚卸とも、方法はほとんど同じ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444-E2A7-4181-ABA7-51FF54E9D2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詳細（担当者、伝票区分、倉庫、現場変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15800" y="836640"/>
            <a:ext cx="5400720" cy="3821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08160" y="1916280"/>
            <a:ext cx="43200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06720" y="2162160"/>
            <a:ext cx="43164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08160" y="2349360"/>
            <a:ext cx="432000" cy="144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40160" y="1916280"/>
            <a:ext cx="43200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248520" y="765000"/>
            <a:ext cx="2857320" cy="3762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44520" y="4869000"/>
            <a:ext cx="90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項目横の変更ボタンを押すと、右図のような画面が開き、各項目ごとに、その項目に登録されたデータが表示されますので、変更したいものを選び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確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してください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閉じ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では、変更は反映さ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35C-C43D-4A1F-B977-FCEC0B4358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詳細（数量変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144880" y="954000"/>
            <a:ext cx="5040000" cy="35672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465960" y="2852640"/>
            <a:ext cx="649080" cy="2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4736880" y="2420640"/>
            <a:ext cx="165564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8520" y="4724280"/>
            <a:ext cx="957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数量の変更を行いたい明細を選択し、数量変更ボタンを押すと、別の画面が開きますので、その画面で数量を打ちかえて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確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してください。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確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を行わず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閉じ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タンで画面を終了させると、変更は反映されません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4520" y="2060640"/>
            <a:ext cx="4176720" cy="431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229360"/>
            <a:ext cx="9906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数量、担当者、伝票区分、倉庫、現場いずれか変更をした場合は、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更新して閉じるを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選択して、詳細画面を終了させてください。閉じただけでは、変更が反映されませ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閉じるボタンを押した場合、右のメッセージが表示されます。変更を反映しない場合は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はい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を、反映させる場合は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いいえ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を選んで、</a:t>
            </a: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更新して閉じるボタン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を押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44880" y="4076640"/>
            <a:ext cx="122544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969240" y="1052640"/>
            <a:ext cx="2747880" cy="14238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28520" y="907920"/>
            <a:ext cx="4381560" cy="17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76A-AF1C-4B11-AB78-88DE014293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8520" y="980640"/>
            <a:ext cx="339084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事務次官起動　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トップ画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メンテナン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サーバ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ータ受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ータ詳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ータ削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伝票登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20840" y="4716360"/>
            <a:ext cx="798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ｉＰａ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71840" y="4481640"/>
            <a:ext cx="3978360" cy="18525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76920" y="4030560"/>
            <a:ext cx="1117080" cy="754200"/>
            <a:chOff x="4876920" y="4030560"/>
            <a:chExt cx="1117080" cy="754200"/>
          </a:xfrm>
        </p:grpSpPr>
        <p:grpSp>
          <p:nvGrpSpPr>
            <p:cNvPr id="94" name=""/>
            <p:cNvGrpSpPr/>
            <p:nvPr/>
          </p:nvGrpSpPr>
          <p:grpSpPr>
            <a:xfrm>
              <a:off x="4876920" y="4115520"/>
              <a:ext cx="804960" cy="667800"/>
              <a:chOff x="4876920" y="4115520"/>
              <a:chExt cx="804960" cy="667800"/>
            </a:xfrm>
          </p:grpSpPr>
          <p:sp>
            <p:nvSpPr>
              <p:cNvPr id="95" name=""/>
              <p:cNvSpPr/>
              <p:nvPr/>
            </p:nvSpPr>
            <p:spPr>
              <a:xfrm>
                <a:off x="4876920" y="4115520"/>
                <a:ext cx="804960" cy="58536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0b0b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90760" y="4697640"/>
                <a:ext cx="376560" cy="47880"/>
              </a:xfrm>
              <a:custGeom>
                <a:avLst/>
                <a:gdLst>
                  <a:gd name="textAreaLeft" fmla="*/ 64800 w 376560"/>
                  <a:gd name="textAreaRight" fmla="*/ 311760 w 376560"/>
                  <a:gd name="textAreaTop" fmla="*/ 8280 h 47880"/>
                  <a:gd name="textAreaBottom" fmla="*/ 39600 h 4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52" y="21600"/>
                    </a:lnTo>
                    <a:lnTo>
                      <a:pt x="354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7979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968720" y="4745880"/>
                <a:ext cx="620640" cy="3744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f9f9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24080" y="4165920"/>
                <a:ext cx="709920" cy="4708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515151"/>
                  </a:gs>
                </a:gsLst>
                <a:lin ang="10800000"/>
              </a:gradFill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740200" y="4030560"/>
              <a:ext cx="253800" cy="754200"/>
              <a:chOff x="5740200" y="4030560"/>
              <a:chExt cx="253800" cy="754200"/>
            </a:xfrm>
          </p:grpSpPr>
          <p:sp>
            <p:nvSpPr>
              <p:cNvPr id="100" name=""/>
              <p:cNvSpPr/>
              <p:nvPr/>
            </p:nvSpPr>
            <p:spPr>
              <a:xfrm>
                <a:off x="5740200" y="4032720"/>
                <a:ext cx="253800" cy="75096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0b0b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786640" y="4080240"/>
                <a:ext cx="38880" cy="423360"/>
              </a:xfrm>
              <a:prstGeom prst="rect">
                <a:avLst/>
              </a:prstGeom>
              <a:solidFill>
                <a:srgbClr val="5f5f5f"/>
              </a:solidFill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86640" y="4547160"/>
                <a:ext cx="38880" cy="194040"/>
              </a:xfrm>
              <a:prstGeom prst="rect">
                <a:avLst/>
              </a:prstGeom>
              <a:solidFill>
                <a:srgbClr val="5f5f5f"/>
              </a:solidFill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902200" y="4094280"/>
                <a:ext cx="49680" cy="4788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0b0b0"/>
                  </a:gs>
                </a:gsLst>
                <a:lin ang="10800000"/>
              </a:gra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42800" y="4030560"/>
                <a:ext cx="0" cy="75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73840" y="4030560"/>
                <a:ext cx="0" cy="75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59480" y="4935600"/>
            <a:ext cx="858960" cy="1058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033880" y="4968720"/>
            <a:ext cx="831960" cy="982800"/>
          </a:xfrm>
          <a:prstGeom prst="rect">
            <a:avLst/>
          </a:prstGeom>
          <a:solidFill>
            <a:srgbClr val="e7e7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13360" y="5186520"/>
            <a:ext cx="874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33399"/>
                </a:solidFill>
                <a:latin typeface="Arial"/>
                <a:ea typeface="HGP創英角ｺﾞｼｯｸUB"/>
              </a:rPr>
              <a:t>ＷＥ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33399"/>
                </a:solidFill>
                <a:latin typeface="Arial"/>
                <a:ea typeface="HGP創英角ｺﾞｼｯｸUB"/>
              </a:rPr>
              <a:t>事務次官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05440" y="5200560"/>
            <a:ext cx="533520" cy="20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76600" y="5200560"/>
            <a:ext cx="533520" cy="20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94200" y="5200560"/>
            <a:ext cx="53316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121200" y="5578560"/>
            <a:ext cx="525240" cy="199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498920" y="5567400"/>
            <a:ext cx="523800" cy="200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935680" y="5540400"/>
            <a:ext cx="525600" cy="200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830920" y="4849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マス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646440" y="4973760"/>
            <a:ext cx="812880" cy="982440"/>
            <a:chOff x="3646440" y="4973760"/>
            <a:chExt cx="812880" cy="982440"/>
          </a:xfrm>
        </p:grpSpPr>
        <p:pic>
          <p:nvPicPr>
            <p:cNvPr id="117" name="" descr=""/>
            <p:cNvPicPr/>
            <p:nvPr/>
          </p:nvPicPr>
          <p:blipFill>
            <a:blip r:embed="rId8"/>
            <a:stretch/>
          </p:blipFill>
          <p:spPr>
            <a:xfrm>
              <a:off x="3646440" y="4973760"/>
              <a:ext cx="81288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029120" y="5238000"/>
              <a:ext cx="17496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116080" y="4973760"/>
            <a:ext cx="976320" cy="1020600"/>
            <a:chOff x="2116080" y="4973760"/>
            <a:chExt cx="976320" cy="1020600"/>
          </a:xfrm>
        </p:grpSpPr>
        <p:grpSp>
          <p:nvGrpSpPr>
            <p:cNvPr id="120" name=""/>
            <p:cNvGrpSpPr/>
            <p:nvPr/>
          </p:nvGrpSpPr>
          <p:grpSpPr>
            <a:xfrm>
              <a:off x="2116080" y="4973760"/>
              <a:ext cx="976320" cy="1020600"/>
              <a:chOff x="2116080" y="4973760"/>
              <a:chExt cx="976320" cy="1020600"/>
            </a:xfrm>
          </p:grpSpPr>
          <p:pic>
            <p:nvPicPr>
              <p:cNvPr id="12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16080" y="4973760"/>
                <a:ext cx="976320" cy="102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2221560" y="5072040"/>
                <a:ext cx="750600" cy="78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15160" y="5134320"/>
                <a:ext cx="586440" cy="673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" name=""/>
            <p:cNvSpPr/>
            <p:nvPr/>
          </p:nvSpPr>
          <p:spPr>
            <a:xfrm>
              <a:off x="2564640" y="5323320"/>
              <a:ext cx="131040" cy="3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402080" y="4849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マス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21120" y="4849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マス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21120" y="5773680"/>
            <a:ext cx="7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売上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見積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92720" y="5764320"/>
            <a:ext cx="73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30920" y="5754600"/>
            <a:ext cx="73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データ送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7680" y="3924360"/>
            <a:ext cx="93726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40560" y="41148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データの流れ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8520" y="981000"/>
            <a:ext cx="339084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販売大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売上・仕入伝票確認   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倉庫移動伝票確認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棚卸伝票確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見積伝票出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見積伝票受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見積伝票確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・・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9A5-5F39-4ECE-B95A-A3729F7018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削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12880" y="907920"/>
            <a:ext cx="6408720" cy="45212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368520" y="5013360"/>
            <a:ext cx="863640" cy="358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0520" y="5445000"/>
            <a:ext cx="900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られてきたデータで、間違って入力した伝票があった場合、ここで削除することも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消したい伝票を選択し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伝票削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ボタンを押してください。選択したデータが削除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440160" y="2781360"/>
            <a:ext cx="2409840" cy="177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45F-809B-4A4E-B8AE-FD85FF82D2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伝票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72880" y="765000"/>
            <a:ext cx="6855120" cy="48358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384880" y="2349360"/>
            <a:ext cx="2076480" cy="1724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232160" y="2924280"/>
            <a:ext cx="1081080" cy="504720"/>
          </a:xfrm>
          <a:prstGeom prst="rightArrow">
            <a:avLst>
              <a:gd name="adj1" fmla="val 50000"/>
              <a:gd name="adj2" fmla="val 5354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2880" y="5516640"/>
            <a:ext cx="928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確認、変更を行い、販売大臣に売上伝票として登録するのに問題が無い場合は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すべて大臣に出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してください。確認のメッセージが表示され、はいを選ぶと登録が行わ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選択した伝票を大臣に出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すと、現在選んでいる伝票データが登録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76880" y="5084640"/>
            <a:ext cx="1800000" cy="50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849240" y="2421000"/>
            <a:ext cx="3095640" cy="17240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15800" y="1268280"/>
            <a:ext cx="1368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2DD-E532-46E1-BDB0-87F5AD25FB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72880" y="765000"/>
            <a:ext cx="6783480" cy="4784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送信したデー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0160" y="5589720"/>
            <a:ext cx="94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販売大臣に登録したデータは、処理済のタブを選ぶと、そこで一覧で表示されます。伝票をダブルクリックすると、詳細を見ることが出来ます。（編集・削除は出来ません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D4E-528B-4472-88CD-9A9EA43AAA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見積伝票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2880" y="692280"/>
            <a:ext cx="6755040" cy="4784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448160" y="981000"/>
            <a:ext cx="4572000" cy="3781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952880" y="2347920"/>
            <a:ext cx="1008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13360" y="3238560"/>
            <a:ext cx="1008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65600" y="2924280"/>
            <a:ext cx="424836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32160" y="4941720"/>
            <a:ext cx="936720" cy="50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5800" y="558972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見積伝票データ変換ボタンを押すと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ら出力された見積のデータを、販売大臣に登録するのに適した形式に変換し、出力しなおします。その際は、大臣設定の四角で囲った欄で指定された場所、名前で出力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94B-BE85-4D40-B7F3-684512A487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販売大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72880" y="765000"/>
            <a:ext cx="792360" cy="7923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281240" y="98100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デスクトップのこのアイコンをダブルクリックして、販売大臣を起動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065240" y="1628640"/>
            <a:ext cx="7129440" cy="2957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281240" y="3357720"/>
            <a:ext cx="5976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5800" y="501336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販売大臣を開くと、データ選択の画面が開かれますので、開きたいデータを選び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キーを押すか、上の決定ボタンを押して、データを開い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16880" y="1844640"/>
            <a:ext cx="504720" cy="57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C0C-D861-40A8-BF6D-74FF1C8C55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販売大臣―売上・仕入伝票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72880" y="765000"/>
            <a:ext cx="7417080" cy="49546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360520" y="2205000"/>
            <a:ext cx="4381560" cy="3432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31800" y="1844640"/>
            <a:ext cx="2017800" cy="2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39800" y="2276640"/>
            <a:ext cx="72072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0160" y="5680080"/>
            <a:ext cx="943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次官から送信した売上データを確認したい場合は、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日常処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伝票入力・発行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伝票入力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売上・受注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仕入伝票の確認の際には、その下、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伝票入力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仕入・発注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89B-6E16-4B5F-A129-F04889E932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売上伝票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281240" y="765000"/>
            <a:ext cx="7159320" cy="4784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72880" y="5516640"/>
            <a:ext cx="950436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伝票を開き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前の伝票、後の伝票を見れますので、それで、データが送られていることを確認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仕入伝票も動きは同じ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36880" y="1413000"/>
            <a:ext cx="936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0EB-5CDE-4E67-99CD-231631C937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販売大臣―倉庫振替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00160" y="836640"/>
            <a:ext cx="6913440" cy="4633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152880" y="1628640"/>
            <a:ext cx="4381560" cy="2575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60520" y="4653000"/>
            <a:ext cx="187164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40160" y="2133720"/>
            <a:ext cx="172872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0160" y="5680080"/>
            <a:ext cx="943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次官から送信した倉庫振替データを確認したい場合は、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倉庫・在庫管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倉庫・在庫管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倉庫間移動伝票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639800" y="2349000"/>
            <a:ext cx="1800360" cy="230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04B-8548-4C4E-AE63-3F7230EA3F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倉庫振替伝票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136520" y="836640"/>
            <a:ext cx="7137360" cy="4784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72880" y="5661000"/>
            <a:ext cx="95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伝票を開き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前の伝票、後の伝票を見れますので、それで、データが送られていることを確認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92520" y="1484280"/>
            <a:ext cx="86508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F20-4CC3-4F3E-826D-D32EF492EB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販売大臣―棚卸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208160" y="1125360"/>
            <a:ext cx="6769080" cy="45370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496880" y="4869000"/>
            <a:ext cx="187164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448160" y="1052640"/>
            <a:ext cx="4381560" cy="2574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 flipV="1">
            <a:off x="2576520" y="2492280"/>
            <a:ext cx="4105440" cy="237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24520" y="2276640"/>
            <a:ext cx="172908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0160" y="5680080"/>
            <a:ext cx="94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次官から送信した倉庫振替データを確認したい場合は、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倉庫・在庫管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倉庫・在庫管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棚卸入力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DE7-2A03-4AFA-94F4-FBD0C6A386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選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84520" y="1989000"/>
            <a:ext cx="6121080" cy="2783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44520" y="1197000"/>
            <a:ext cx="920880" cy="920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84520" y="126828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このアイコンをダブルクリックすると、プログラムが起動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423800" y="148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4880" y="5229360"/>
            <a:ext cx="885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起動すると、販売大臣のデータの選択画面が出ますの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が複数ある場合は、使用するデータを選択し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キャンセ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すと、プログラムが終了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C9D3-49A1-4665-BE56-E1DC56140C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棚卸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352520" y="836640"/>
            <a:ext cx="7137360" cy="47847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592520" y="2421000"/>
            <a:ext cx="2665440" cy="2879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49600" y="580536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棚卸日、実残が書き換わっていることを確かめ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F8D-2EA2-4824-B0F3-BDA0CA40D4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販売大臣―見積伝票出力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72880" y="692280"/>
            <a:ext cx="7128000" cy="47624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44520" y="1268280"/>
            <a:ext cx="3941640" cy="2316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5384880" y="981000"/>
            <a:ext cx="3456000" cy="3427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936880" y="4437000"/>
            <a:ext cx="201600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5800" y="1771560"/>
            <a:ext cx="180036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216160" y="2205000"/>
            <a:ext cx="1008000" cy="20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60520" y="1989000"/>
            <a:ext cx="3240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0160" y="5516640"/>
            <a:ext cx="94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繰越・特殊処理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の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データ入出力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伝票データ作成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見積・在庫関連・倉庫間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タブ→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見積伝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チェックをし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すと、指定した場所に見積伝票のデータが出力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事務次官では、この出力されたデータを元に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データを送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53240" y="4149720"/>
            <a:ext cx="72072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8E3-8B12-4780-A066-30A5156026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73040" y="692280"/>
            <a:ext cx="7128000" cy="47624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販売大臣―見積伝票受入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44520" y="981000"/>
            <a:ext cx="4381560" cy="25750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137040" y="4437000"/>
            <a:ext cx="201600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5960" y="1771560"/>
            <a:ext cx="180036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2416320" y="2205000"/>
            <a:ext cx="1008000" cy="20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384880" y="836640"/>
            <a:ext cx="4381560" cy="3046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649600" y="1989000"/>
            <a:ext cx="2519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0160" y="5157720"/>
            <a:ext cx="957708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の出力と同様に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データ入出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押し、先ほどの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伝票データ作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すぐ下の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データ受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押して、右画面を開きます。下の方へ移動すると、見積伝票の受信のチェック欄がありますので、チェックをして、受入元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事務次官で指定した出力先のパス、ファイル名と同じにして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入開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押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データの入出力を行う際は、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eb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事務次官を終了させてから行っ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977240" y="3573360"/>
            <a:ext cx="79200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EE1-2751-4581-87FA-158439F009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販売大臣―見積伝票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44520" y="836640"/>
            <a:ext cx="6553080" cy="43783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440160" y="2421000"/>
            <a:ext cx="4381560" cy="20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631800" y="1916280"/>
            <a:ext cx="180036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0" y="2852640"/>
            <a:ext cx="187164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00160" y="2205000"/>
            <a:ext cx="158436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0160" y="5661000"/>
            <a:ext cx="94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事務次官から送信した見積データを確認したい場合は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日常処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見積入力・発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見積入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775-80E1-4104-9FED-8D0B07C5F6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見積伝票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2160" y="765000"/>
            <a:ext cx="7488360" cy="5004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282600" y="5681520"/>
            <a:ext cx="95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伝票を開き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前の伝票、後の伝票を見れますので、それで、データが送られていることを確認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20880" y="1484280"/>
            <a:ext cx="936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B45-9B52-4AEB-A544-3460B48AE2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4520" y="907920"/>
            <a:ext cx="5975280" cy="4214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次官―トップ画面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52520" y="5300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起動してすぐに表示される画面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終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ボタンを押すと、プログラムが終了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5800" y="1052640"/>
            <a:ext cx="180036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1197000"/>
            <a:ext cx="3457440" cy="36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ファイ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終了・・・プログラムを終了しま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メンテナン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担当者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送る担当者を選択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得意先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送る得意先を選択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仕入先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送る仕入先を選択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倉庫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送る倉庫を選択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現場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送る現場を選択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商品部門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送る商品分類を選択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商品カタログ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送る商品を選択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規定値・・・設定を行いま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大臣設定・・・設定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得意先残更新・・・大臣から売掛残を取得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商品在庫更新・・・大臣から商品在庫を取得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見積伝票更新・・・大臣から見積伝票データを取得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売上伝票更新・・・大臣から売上伝票データを取得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仕入伝票更新・・・大臣から仕入伝票データを取得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B60-84C7-4B53-BC8A-AEEC260AFA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現場・倉庫・仕入先・商品部門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05600" y="1989000"/>
            <a:ext cx="3384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応研・販売大臣に登録されている仕入先一覧から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で使用したい仕入先を選択し、ダブルクリックすると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で使用する仕入先一覧に追加され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から仕入先を減らしたい場合は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仕入先一覧から、減らしたい仕入先を選択し、ダブルクリックしてください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仕入先一覧から、選択した仕入先がなく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4520" y="692280"/>
            <a:ext cx="89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現場・倉庫・仕入先・商品部門のメンテナンス処理は同じですので、仕入先で説明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0160" y="1052640"/>
            <a:ext cx="5889600" cy="466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84520" y="5877000"/>
            <a:ext cx="619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全マスタ共通ですが、閉じる際に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eb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のマスタを同時に更新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必要なマスタを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eb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に上げないままで閉じないよう、お気をつけ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A6A-83EA-417E-8047-BB8DB8E7C8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31800" y="692280"/>
            <a:ext cx="4176720" cy="3409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担当者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097600" y="1701720"/>
            <a:ext cx="4381200" cy="174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865600" y="1270080"/>
            <a:ext cx="172692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2880" y="4221000"/>
            <a:ext cx="9217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担当者を選んでダブルクリックします。規定値で担当者にパスワードを使用するに設定している際は、右画像が開きます。その際は、パスワードを設定しなければ、担当者をウェブに設定することができません。自動生成ボタンを押すと、四桁の数値で、ランダムにパスワードを生成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使用しないを設定している場合は、担当者を選んでダブルクリックすると、すぐにウェブに設定する準備ができ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ウェブからはずしたい場合は、はずしたい担当者を選んでダブルクリック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57960" y="2565360"/>
            <a:ext cx="647640" cy="2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68880" y="2854440"/>
            <a:ext cx="1079640" cy="57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97600" y="3502080"/>
            <a:ext cx="45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確定を押して初めて、ウェブに設定されます。閉じるボタンでは、ウェブに設定されませ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2880" y="6021360"/>
            <a:ext cx="92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担当者にパスワードを使用すると設定している場合、全件追加、全件削除ボタンは表示されません。各担当者ごとにパスワードを設定して、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eb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に上げること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9C1-2809-4799-9D90-26A7A4B913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0160" y="765000"/>
            <a:ext cx="7080120" cy="47847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得意先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16520" y="1413000"/>
            <a:ext cx="302400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45240" y="1268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登録された得意先の検索を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7040160" y="1557360"/>
            <a:ext cx="576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4520" y="4941720"/>
            <a:ext cx="1152360" cy="50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73960" y="4797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販売大臣に登録されたデータを取得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176880" y="508464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228-F0A9-4434-AAB4-A870473A4A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得意先の選択、選択解除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72880" y="836640"/>
            <a:ext cx="4381560" cy="2693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952880" y="3284640"/>
            <a:ext cx="4381560" cy="2693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808520" y="1197000"/>
            <a:ext cx="47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送りたい得意先をダブルクリックすると、左画像のような画面が開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閉じ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押すと、得意先は登録さ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確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押すと、この得意先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送ら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0160" y="4365720"/>
            <a:ext cx="46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ら消したい得意先をダブルクリックすると、右画像のような画面が開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確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閉じ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押すと、このデータ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残り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開しないボタンを押すと、このデータ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Mak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らなく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32520" y="5445000"/>
            <a:ext cx="1008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0AB-47F7-45C1-B107-922B726B01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88880" y="981000"/>
            <a:ext cx="6743880" cy="4784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936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ンテナンス―商品カタログ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16520" y="1413000"/>
            <a:ext cx="302400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45240" y="1268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登録された商品の検索を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7040160" y="1557360"/>
            <a:ext cx="576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4941720"/>
            <a:ext cx="1081080" cy="358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73960" y="4797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販売大臣に登録されたデータを取得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168880" y="5084640"/>
            <a:ext cx="223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B68D-3D23-43C9-8C90-A477F328E0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3:00:16Z</dcterms:created>
  <dc:creator>IMP</dc:creator>
  <dc:description/>
  <dc:language>en-US</dc:language>
  <cp:lastModifiedBy>acer01</cp:lastModifiedBy>
  <dcterms:modified xsi:type="dcterms:W3CDTF">2012-06-18T10:23:39Z</dcterms:modified>
  <cp:revision>343</cp:revision>
  <dc:subject/>
  <dc:title>PowerPoint プレゼンテーション</dc:title>
</cp:coreProperties>
</file>