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043-F62D-410B-B6D9-CE6AA695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A8F-68B7-4DC2-8CB0-1851B40F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201-00B9-4C5C-9D7A-4C79D480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B60-DCCA-48FC-AB3E-CDDF9B9D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AEE-CB7A-4E74-BA5F-6F94BC71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C7E-5ADC-4F3F-B39C-802FA457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82E-DF63-472B-B796-0A4D372B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B9C-B61B-4AE7-9F2A-7A3C7D4E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F42-B660-453C-B2E8-20C42E3C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D75-72AD-4748-A508-6566BA98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39F-C1AB-4042-B398-B91715AE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9D7-1A3C-4F11-B159-64579658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30CB-E25E-43FF-BE16-203A31F4004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54160"/>
          <a:ext cx="9144000" cy="62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4160"/>
                    <a:ext cx="914400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8458200" y="6134040"/>
            <a:ext cx="6094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279360"/>
          <a:ext cx="9144000" cy="61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9360"/>
                    <a:ext cx="914400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305920" y="6134040"/>
            <a:ext cx="7617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255600"/>
          <a:ext cx="9144000" cy="622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5600"/>
                    <a:ext cx="9144000" cy="62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8305920" y="6134040"/>
            <a:ext cx="7617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254160"/>
          <a:ext cx="9144000" cy="62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4160"/>
                    <a:ext cx="914400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8458200" y="6134040"/>
            <a:ext cx="6094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255600"/>
          <a:ext cx="9144000" cy="622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5600"/>
                    <a:ext cx="9144000" cy="62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8458200" y="6134040"/>
            <a:ext cx="6094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290520"/>
          <a:ext cx="9144000" cy="61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0520"/>
                    <a:ext cx="914400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8458200" y="6134040"/>
            <a:ext cx="6094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320760"/>
          <a:ext cx="9144000" cy="60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0760"/>
                    <a:ext cx="9144000" cy="60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8153280" y="5943600"/>
            <a:ext cx="8384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266760"/>
          <a:ext cx="9144000" cy="61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760"/>
                    <a:ext cx="914400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8458200" y="6134040"/>
            <a:ext cx="6094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301680"/>
          <a:ext cx="9144000" cy="617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1680"/>
                    <a:ext cx="9144000" cy="61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458200" y="6134040"/>
            <a:ext cx="6094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284040"/>
          <a:ext cx="9144000" cy="619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4040"/>
                    <a:ext cx="9144000" cy="619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8458200" y="6134040"/>
            <a:ext cx="6094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254160"/>
          <a:ext cx="9144000" cy="62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4160"/>
                    <a:ext cx="914400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8458200" y="6134040"/>
            <a:ext cx="6094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19:11Z</dcterms:created>
  <dc:creator>IMP</dc:creator>
  <dc:description/>
  <dc:language>en-US</dc:language>
  <cp:lastModifiedBy>IMP</cp:lastModifiedBy>
  <dcterms:modified xsi:type="dcterms:W3CDTF">2012-07-02T05:36:14Z</dcterms:modified>
  <cp:revision>3</cp:revision>
  <dc:subject/>
  <dc:title>PowerPoint プレゼンテーション</dc:title>
</cp:coreProperties>
</file>