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982-AE24-4A9B-BABD-02289084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669-557F-4F59-A47B-1DD757F4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B43-9CBF-4F09-9FCA-A07FACDC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52C-722C-4FF3-B521-3C28F13A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D84-A280-475A-8085-AE277625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1A5-9D0B-47C4-81EF-2EBA42DF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1B7-23DC-4892-A405-239228B0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27C-D655-4D7B-A20C-1B4CE474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3B6-2EF9-4CCC-8C43-A2C18B4E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5E7-9561-4C15-A066-D44C4A37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99C-3479-4E8A-B2A2-7C702F1A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92D-976E-4B2B-912A-1E0D83AD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234A-D9FB-4A1D-9643-35A16944EC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Maker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＠レ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3280" y="3886200"/>
            <a:ext cx="276876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 1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609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株式会社　インターメディア・プランニン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5734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平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会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573408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販売業務画面で、会員ボタンを押すと、会員コードを問うメッセージが出て来、存在する会員コードを入力すると、画面上に、会員名が表示されるようにな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員不使用時は、一般と表示されて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67280" y="765000"/>
            <a:ext cx="3619440" cy="482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30862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24000" y="5229360"/>
            <a:ext cx="7189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商品情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80536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トップ画面の商品情報ボタンを押すと、左画面にな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左画面で商品をクリック・タップすると、右の詳細画面にな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56544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932360" y="1125360"/>
            <a:ext cx="3511440" cy="468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部門情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3357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登録されている部門を一覧で表示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408560" cy="587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会員情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5661000"/>
            <a:ext cx="87138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員情報ボタンを押すと、まず、五十音別の会員数が表示され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れで、目的の五十音を選択すると、頭文字に選択した五十音列がカナ登録された会員を表示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2349360"/>
            <a:ext cx="2376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0859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250920" y="2060640"/>
            <a:ext cx="316872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256536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あ行を選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781440" cy="504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508720" y="404640"/>
            <a:ext cx="30859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会員情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2997360"/>
            <a:ext cx="295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員の一覧画面で、会員を選んでタップすると、この画面にな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一画面に収まりきれなかったので、分けて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下の画像は、下にスライドした画面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51280" y="2565360"/>
            <a:ext cx="30859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取引履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205000"/>
            <a:ext cx="360360" cy="43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2349360"/>
            <a:ext cx="33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取引履歴画面では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にある、取引の履歴を日付毎にまとめて表示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目的の日付をクリック・タップすると、その日付の取引が一覧で表示され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0859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0" y="1700280"/>
            <a:ext cx="3492360" cy="433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0859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30862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取引履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971640" y="2637000"/>
            <a:ext cx="720720" cy="86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63640" y="2276640"/>
            <a:ext cx="3024360" cy="40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5076720" y="2349360"/>
            <a:ext cx="360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択した日付で、目的の取引をタップすると、取引の詳細が表示され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その際、明細ボタンを押すと、その取引でどの商品を売却したか、一覧で見ることができ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3357720"/>
            <a:ext cx="309564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取引履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771720" cy="502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572000" y="2276640"/>
            <a:ext cx="374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取引履歴で、入金、出金の処理を選択すると、この画面へ移動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会員を選んでいると、会員の欄に会員名が表示され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点検・精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1989000"/>
            <a:ext cx="3816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精算画面では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のデータの取引件数、売上の合計金額を表示して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現在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a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、精算の処理を行うと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データを送るように作成して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そのデータは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取引履歴の画面にある、取り込みボタンから取り込めるように作成してあ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90664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050920" y="2781360"/>
            <a:ext cx="290700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設定画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2997360"/>
            <a:ext cx="360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 G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接続する際に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ドレスの指定が必要にな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で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ドレスを指定しておけば、そのアドレスの使用され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接続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67440" cy="56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094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トップ画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404640"/>
            <a:ext cx="36716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開いてすぐに表示される画面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販売業務ボタンで、販売画面へ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商品情報ボタンで、マスタに登録された商品の確認へ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部門情報ボタンで、マスタに登録された部門の確認へ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員情報ボタンで、マスタに登録された会員の確認へ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取引履歴ボタンで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に入っている、取引の履歴が閲覧でき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点検、精算ボタンを押すと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のデータの件数、合計金額を計算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精算の処理はまだ作成していませ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設定は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 G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連携に使用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4051080" cy="54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検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508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員、商品、部門の情報画面では、検索ができ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32000" y="1197000"/>
            <a:ext cx="2754360" cy="36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2762280" cy="36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754360" cy="36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700360" y="1413000"/>
            <a:ext cx="28728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1413000"/>
            <a:ext cx="36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8360" y="1484280"/>
            <a:ext cx="28728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検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32360" y="2060640"/>
            <a:ext cx="403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員、商品、部門の情報画面で検索ボタンを押すと、この画面に変わ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ヘッダの文字は、それぞれ変わ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上のドロップダウンリストで、コード検索か、名称検索か、カナ検索か選択し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下のテキストボックスで検索したい文字列を指定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051080" cy="54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マスタ更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5084640"/>
            <a:ext cx="871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更新ボタンを押すと、マスタの更新を行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は、事務次官から出力されたファイルからデータを更新し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は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上にあ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マスタで、データを書き換え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03640" y="1197000"/>
            <a:ext cx="2754360" cy="36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56360" y="1197000"/>
            <a:ext cx="2754360" cy="36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5580000" y="1484280"/>
            <a:ext cx="43200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675640" y="1484280"/>
            <a:ext cx="28908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2754360" cy="36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2700360" y="1413000"/>
            <a:ext cx="35892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56000" y="3429000"/>
            <a:ext cx="17287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販売業務画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284720" y="2133360"/>
            <a:ext cx="215892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084720" y="3645000"/>
            <a:ext cx="21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440" y="5746680"/>
            <a:ext cx="8351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販売業務画面で商品を入力後、その商品をクリック・タップすると、右上の商品明細画面に切り替わり、数量・単価の変更等ができ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商品明細画面の商品情報ボタンを押すと、商品の詳しい情報が見れ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30862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900000" y="2133720"/>
            <a:ext cx="3311640" cy="358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443640" y="1197000"/>
            <a:ext cx="216072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300720" y="3429000"/>
            <a:ext cx="244800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2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数量・単価変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2971800" cy="39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2971800" cy="39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68360" y="5445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レジの商品詳細画面の数量、単価の欄をタップすると、変更の画面に移動し、そこで数量、単価を変更することができ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30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値割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3079800" cy="41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307980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468360" y="5373720"/>
            <a:ext cx="828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レジの商品詳細の値割引の欄をタップすると、変更の画面へ移動します。そこで、値引き、割引を設定でき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値引き、割引のボタンの、青くなっているほうが選択されてい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2852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値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2924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割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販売業務画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243036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916360" y="3213000"/>
            <a:ext cx="248436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724360" y="5013360"/>
            <a:ext cx="30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部門を選択すると、その部門で登録された商品の一覧を表示します。これで商品を選択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連続入力が可能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/>
          <p:nvPr/>
        </p:nvCxnSpPr>
        <p:spPr>
          <a:xfrm flipH="1" flipV="1" rot="10800000">
            <a:off x="1476000" y="4365360"/>
            <a:ext cx="1080360" cy="611640"/>
          </a:xfrm>
          <a:prstGeom prst="bentConnector3">
            <a:avLst>
              <a:gd name="adj1" fmla="val -14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0" y="4653000"/>
            <a:ext cx="22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れを押すと、右図の部門一覧が開き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4076640"/>
            <a:ext cx="505080" cy="28908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3573360"/>
            <a:ext cx="3240000" cy="2160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3025800" cy="403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2771640" y="6093000"/>
            <a:ext cx="2808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437000"/>
            <a:ext cx="32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363640" y="2707920"/>
            <a:ext cx="360360" cy="18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364000" y="2708280"/>
            <a:ext cx="144720" cy="338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16360" y="213372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現在注文している個数、金額を表示していま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現計画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4365720"/>
            <a:ext cx="42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販売業務画面下の、会計ボタンを押すと、現計の画面へと移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現計ボタンを押すと、取引は終了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預かり金は、入力せずに現計を行うと、合計金額を、そのまま預かり金として書き込み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7636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2050920" y="3860640"/>
            <a:ext cx="79236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213080" cy="56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取引終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0862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324000" y="537372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現計ボタンを押すと、右画像の画面になり、取引は終了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完了ボタンを押すと、販売業務の画面へ戻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149720"/>
            <a:ext cx="363528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3403800" cy="45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入出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0859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443640" y="3932280"/>
            <a:ext cx="2193840" cy="292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635280" y="620640"/>
            <a:ext cx="2194200" cy="292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443640" y="620640"/>
            <a:ext cx="219384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2124000" y="4724280"/>
            <a:ext cx="647640" cy="2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1773360"/>
            <a:ext cx="28872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0360" y="1773360"/>
            <a:ext cx="28908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08720" y="3573360"/>
            <a:ext cx="57636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3933720"/>
            <a:ext cx="273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オプションボタンを押して、入出金の処理も行うことができ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画像は入金の画面にしていますが、画面、処理は出金もほとんど同じで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1052640"/>
            <a:ext cx="2376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67280" y="1773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入金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出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00:05:43Z</dcterms:created>
  <dc:creator>acer01</dc:creator>
  <dc:description/>
  <dc:language>en-US</dc:language>
  <cp:lastModifiedBy>acer01</cp:lastModifiedBy>
  <dcterms:modified xsi:type="dcterms:W3CDTF">2012-04-26T01:10:07Z</dcterms:modified>
  <cp:revision>4</cp:revision>
  <dc:subject/>
  <dc:title>PowerPoint Presentation</dc:title>
</cp:coreProperties>
</file>