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633-E420-473E-989B-B9754560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14F-B082-4C99-950D-42700020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FCF-91AD-4F49-A073-3A5ABDE6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915-2905-459F-B944-75EC2F88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D0D-6EF0-4081-8855-169D8333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B20-F627-41BA-B0E2-FE426426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496-37FF-4E89-B682-C4CFD127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8B9-FE02-4D41-9F25-AEDC627E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0D4-C2DB-4CED-9BEA-DD18506B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D83-C598-4EE3-9257-8D969E7B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2D8-9839-4C57-823B-1C5F459C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0FA-2951-4930-B443-AEE3B500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5E91-09AF-4FE7-ADB9-6B4CBBDC7DC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6120" y="2133720"/>
            <a:ext cx="9401400" cy="2286000"/>
          </a:xfrm>
          <a:prstGeom prst="roundRect">
            <a:avLst>
              <a:gd name="adj" fmla="val 6042"/>
            </a:avLst>
          </a:prstGeom>
          <a:solidFill>
            <a:srgbClr val="ff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G_0066" descr=""/>
          <p:cNvPicPr/>
          <p:nvPr/>
        </p:nvPicPr>
        <p:blipFill>
          <a:blip r:embed="rId1"/>
          <a:stretch/>
        </p:blipFill>
        <p:spPr>
          <a:xfrm>
            <a:off x="361800" y="2343240"/>
            <a:ext cx="1486080" cy="1981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3" name="IMG_0067" descr=""/>
          <p:cNvPicPr/>
          <p:nvPr/>
        </p:nvPicPr>
        <p:blipFill>
          <a:blip r:embed="rId2"/>
          <a:stretch/>
        </p:blipFill>
        <p:spPr>
          <a:xfrm>
            <a:off x="6553080" y="2343240"/>
            <a:ext cx="1486080" cy="1981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44" name="IMG_0068" descr=""/>
          <p:cNvPicPr/>
          <p:nvPr/>
        </p:nvPicPr>
        <p:blipFill>
          <a:blip r:embed="rId3"/>
          <a:stretch/>
        </p:blipFill>
        <p:spPr>
          <a:xfrm>
            <a:off x="8096400" y="2343240"/>
            <a:ext cx="1485720" cy="1981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45" name="IMG_0069" descr=""/>
          <p:cNvPicPr/>
          <p:nvPr/>
        </p:nvPicPr>
        <p:blipFill>
          <a:blip r:embed="rId4"/>
          <a:stretch/>
        </p:blipFill>
        <p:spPr>
          <a:xfrm>
            <a:off x="1905120" y="2343240"/>
            <a:ext cx="1485720" cy="1981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76120" y="4552920"/>
            <a:ext cx="5334120" cy="2095560"/>
          </a:xfrm>
          <a:prstGeom prst="roundRect">
            <a:avLst>
              <a:gd name="adj" fmla="val 6042"/>
            </a:avLst>
          </a:prstGeom>
          <a:solidFill>
            <a:srgbClr val="ff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TT-JTCナミキ中太楷書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84680" y="6292800"/>
            <a:ext cx="2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06"/>
          <p:cNvSpPr/>
          <p:nvPr/>
        </p:nvSpPr>
        <p:spPr>
          <a:xfrm>
            <a:off x="38160" y="38160"/>
            <a:ext cx="9835920" cy="6788160"/>
          </a:xfrm>
          <a:prstGeom prst="roundRect">
            <a:avLst>
              <a:gd name="adj" fmla="val 1333"/>
            </a:avLst>
          </a:prstGeom>
          <a:noFill/>
          <a:ln w="15840">
            <a:solidFill>
              <a:srgbClr val="000080"/>
            </a:solidFill>
            <a:miter/>
          </a:ln>
          <a:effectLst>
            <a:outerShdw dist="17819" dir="2700000" blurRad="0" rotWithShape="0">
              <a:srgbClr val="868e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152280"/>
            <a:ext cx="5943600" cy="1905120"/>
          </a:xfrm>
          <a:prstGeom prst="roundRect">
            <a:avLst>
              <a:gd name="adj" fmla="val 8940"/>
            </a:avLst>
          </a:prstGeom>
          <a:solidFill>
            <a:srgbClr val="ff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5114880"/>
            <a:ext cx="1866960" cy="838080"/>
          </a:xfrm>
          <a:prstGeom prst="ellipse">
            <a:avLst/>
          </a:prstGeom>
          <a:solidFill>
            <a:srgbClr val="ff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6ILAC13" descr=""/>
          <p:cNvPicPr/>
          <p:nvPr/>
        </p:nvPicPr>
        <p:blipFill>
          <a:blip r:embed="rId5"/>
          <a:stretch/>
        </p:blipFill>
        <p:spPr>
          <a:xfrm>
            <a:off x="2438280" y="5124600"/>
            <a:ext cx="1143000" cy="85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19200" y="4648320"/>
            <a:ext cx="1143000" cy="380880"/>
          </a:xfrm>
          <a:prstGeom prst="ellipse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3240" y="4648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事務次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for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販売大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90840" y="5191200"/>
            <a:ext cx="695160" cy="31572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99ccff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90840" y="5248440"/>
            <a:ext cx="7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603900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・売上伝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・仕入伝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・倉庫振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・棚　　　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4762440"/>
            <a:ext cx="942840" cy="2142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680" y="4734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iPad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で伝票入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62200" y="5191200"/>
            <a:ext cx="695520" cy="31572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99ccff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2200" y="52434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ndex_li001_nx" descr="販売大臣NX"/>
          <p:cNvPicPr/>
          <p:nvPr/>
        </p:nvPicPr>
        <p:blipFill>
          <a:blip r:embed="rId6"/>
          <a:stretch/>
        </p:blipFill>
        <p:spPr>
          <a:xfrm>
            <a:off x="4314960" y="4952880"/>
            <a:ext cx="990360" cy="1067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90800" y="6010200"/>
            <a:ext cx="2971800" cy="600120"/>
          </a:xfrm>
          <a:prstGeom prst="cloudCallout">
            <a:avLst>
              <a:gd name="adj1" fmla="val -42736"/>
              <a:gd name="adj2" fmla="val -11666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599840" y="5591160"/>
            <a:ext cx="695160" cy="31608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ffff99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5638680"/>
            <a:ext cx="800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3571560" y="5591160"/>
            <a:ext cx="695160" cy="31608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ffff99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0360" y="564372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61531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ＷＥＢサーバはお客様の事務所へ設置する以外に、弊社サーバ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一部レンタル等で手軽に立ち上げることもできま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oint" descr="ここがポイント"/>
          <p:cNvPicPr/>
          <p:nvPr/>
        </p:nvPicPr>
        <p:blipFill>
          <a:blip r:embed="rId7"/>
          <a:stretch/>
        </p:blipFill>
        <p:spPr>
          <a:xfrm>
            <a:off x="3886200" y="326880"/>
            <a:ext cx="533520" cy="463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81200" y="2133720"/>
            <a:ext cx="93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ＴＯＰ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5360" y="2124000"/>
            <a:ext cx="84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得意先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38920" y="2133720"/>
            <a:ext cx="92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商品詳細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62800" y="2133720"/>
            <a:ext cx="100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倉庫振替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5715000" y="5124600"/>
            <a:ext cx="396252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4"/>
          <p:cNvSpPr/>
          <p:nvPr/>
        </p:nvSpPr>
        <p:spPr>
          <a:xfrm>
            <a:off x="6543720" y="6313320"/>
            <a:ext cx="27907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本 　社　〒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852-8105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長崎県長崎市目覚町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3-10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　　　　　　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095(813)0781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095(813)087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86680" y="6051600"/>
            <a:ext cx="3276360" cy="29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Arial"/>
              </a:rPr>
              <a:t>株式会社インターメディア・プランニン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ピクチャ 1"/>
          <p:cNvGraphicFramePr/>
          <p:nvPr/>
        </p:nvGraphicFramePr>
        <p:xfrm>
          <a:off x="5962680" y="6119640"/>
          <a:ext cx="504720" cy="38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" name="ピクチャ 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62680" y="6119640"/>
                    <a:ext cx="50472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791320" y="5208480"/>
            <a:ext cx="79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お問い合せ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5956200"/>
            <a:ext cx="79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開発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360" y="5934240"/>
            <a:ext cx="39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3840" y="1752480"/>
            <a:ext cx="39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99"/>
                </a:solidFill>
                <a:latin typeface="Osaka-UI"/>
                <a:ea typeface="Osaka-UI"/>
              </a:rPr>
              <a:t>iPad</a:t>
            </a:r>
            <a:r>
              <a:rPr b="1" lang="ja-JP" sz="1200" spc="-1" strike="noStrike">
                <a:solidFill>
                  <a:srgbClr val="003399"/>
                </a:solidFill>
                <a:latin typeface="Osaka-UI"/>
                <a:ea typeface="Osaka-UI"/>
              </a:rPr>
              <a:t>を使って､売上･仕入･倉庫振替･棚卸ができる</a:t>
            </a:r>
            <a:r>
              <a:rPr b="1" lang="ja-JP" sz="1200" spc="-1" strike="noStrike">
                <a:solidFill>
                  <a:srgbClr val="003399"/>
                </a:solidFill>
                <a:latin typeface="Osaka-UI"/>
                <a:ea typeface="Osaka-U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1840" y="324000"/>
            <a:ext cx="518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WEB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事務次官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fo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販売大臣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 」を使えば、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iPad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で販売大臣の伝票入力をどこにいても実行できます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95560" y="743040"/>
            <a:ext cx="5781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ff"/>
                </a:solidFill>
                <a:latin typeface="ＭＳ Ｐゴシック"/>
              </a:rPr>
              <a:t>ＷｉＦｉ、３Ｇ回線がなくても売上・発注・見積り入力ができます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ff"/>
                </a:solidFill>
                <a:latin typeface="ＭＳ Ｐゴシック"/>
              </a:rPr>
              <a:t>「担当者選択」→「得意先・仕入先選択」→「商品選択」と、操作は指先タップが中心！　出先での受発注を手軽に入力できます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ff"/>
                </a:solidFill>
                <a:latin typeface="ＭＳ Ｐゴシック"/>
              </a:rPr>
              <a:t>新機能</a:t>
            </a:r>
            <a:r>
              <a:rPr b="0" lang="ja-JP" sz="1200" spc="-1" strike="noStrike">
                <a:solidFill>
                  <a:srgbClr val="0000ff"/>
                </a:solidFill>
                <a:latin typeface="ＭＳ Ｐゴシック"/>
              </a:rPr>
              <a:t>：</a:t>
            </a:r>
            <a:r>
              <a:rPr b="1" lang="ja-JP" sz="1200" spc="-1" strike="noStrike">
                <a:solidFill>
                  <a:srgbClr val="0000ff"/>
                </a:solidFill>
                <a:latin typeface="ＭＳ Ｐゴシック"/>
              </a:rPr>
              <a:t>「仕入」「倉庫移動」「棚卸」「バーコードスキャナ」対応！管理できる倉庫が　　　「</a:t>
            </a:r>
            <a:r>
              <a:rPr b="1" lang="ja-JP" sz="1200" spc="-1" strike="noStrike">
                <a:solidFill>
                  <a:srgbClr val="0000ff"/>
                </a:solidFill>
                <a:latin typeface="ＭＳ Ｐゴシック"/>
              </a:rPr>
              <a:t>10</a:t>
            </a:r>
            <a:r>
              <a:rPr b="1" lang="ja-JP" sz="1200" spc="-1" strike="noStrike">
                <a:solidFill>
                  <a:srgbClr val="0000ff"/>
                </a:solidFill>
                <a:latin typeface="ＭＳ Ｐゴシック"/>
              </a:rPr>
              <a:t>」に増えました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ff"/>
                </a:solidFill>
                <a:latin typeface="ＭＳ Ｐゴシック"/>
              </a:rPr>
              <a:t>販売大臣と連動！大臣で入力した履歴が見れます！見積入力ができます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G_0070" descr=""/>
          <p:cNvPicPr/>
          <p:nvPr/>
        </p:nvPicPr>
        <p:blipFill>
          <a:blip r:embed="rId10"/>
          <a:stretch/>
        </p:blipFill>
        <p:spPr>
          <a:xfrm>
            <a:off x="3448080" y="2343240"/>
            <a:ext cx="1485720" cy="1981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85" name="IMG_0072" descr=""/>
          <p:cNvPicPr/>
          <p:nvPr/>
        </p:nvPicPr>
        <p:blipFill>
          <a:blip r:embed="rId11"/>
          <a:stretch/>
        </p:blipFill>
        <p:spPr>
          <a:xfrm>
            <a:off x="5000760" y="2343240"/>
            <a:ext cx="1485720" cy="1981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3772080" y="2133720"/>
            <a:ext cx="93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部門選択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133720"/>
            <a:ext cx="8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商品カタロ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graphic_fm_go_ipad" descr=""/>
          <p:cNvPicPr/>
          <p:nvPr/>
        </p:nvPicPr>
        <p:blipFill>
          <a:blip r:embed="rId12"/>
          <a:stretch/>
        </p:blipFill>
        <p:spPr>
          <a:xfrm>
            <a:off x="704880" y="5038560"/>
            <a:ext cx="826920" cy="981360"/>
          </a:xfrm>
          <a:prstGeom prst="rect">
            <a:avLst/>
          </a:prstGeom>
          <a:ln w="0">
            <a:noFill/>
          </a:ln>
        </p:spPr>
      </p:pic>
      <p:pic>
        <p:nvPicPr>
          <p:cNvPr id="89" name="filemakerpro12" descr=""/>
          <p:cNvPicPr/>
          <p:nvPr/>
        </p:nvPicPr>
        <p:blipFill>
          <a:blip r:embed="rId13"/>
          <a:stretch/>
        </p:blipFill>
        <p:spPr>
          <a:xfrm>
            <a:off x="2733840" y="5305320"/>
            <a:ext cx="284040" cy="34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34760" y="5505480"/>
            <a:ext cx="657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T-JTCナミキ中太楷書P"/>
              </a:rPr>
              <a:t>FileMaker Pr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1080" y="5924520"/>
            <a:ext cx="657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T-JTCナミキ中太楷書P"/>
              </a:rPr>
              <a:t>FileMaker G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6560" y="4495680"/>
            <a:ext cx="3962160" cy="561960"/>
          </a:xfrm>
          <a:prstGeom prst="rect">
            <a:avLst/>
          </a:prstGeom>
          <a:solidFill>
            <a:srgbClr val="ffff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449568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ｺﾞｼｯｸE"/>
              </a:rPr>
              <a:t>ＷＥＢ事務次官を使えばｉＰａｄで販売大臣の伝票入力をどこにいても実行できます。お互いに省力化が進むだけでなく企業のイメージアップにもつながります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228600" y="162000"/>
            <a:ext cx="33814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8:31:15Z</dcterms:created>
  <dc:creator>momota</dc:creator>
  <dc:description/>
  <dc:language>en-US</dc:language>
  <cp:lastModifiedBy>IMP</cp:lastModifiedBy>
  <dcterms:modified xsi:type="dcterms:W3CDTF">2012-08-01T08:18:19Z</dcterms:modified>
  <cp:revision>193</cp:revision>
  <dc:subject/>
  <dc:title>スライド 1</dc:title>
</cp:coreProperties>
</file>