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039-DF32-4E14-8462-BD9EDBFA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297-CFD9-4778-8B9C-45E4E4B9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12B-56C0-4B9C-93EB-5BE117A5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B9F-479C-486D-AF2E-A5E0559D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466-2919-4A03-B257-85072EB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2F1-DFFE-42A4-890D-244B11B9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FEB-C84A-49BF-93CB-8634137A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A67-D837-49BC-919D-42B4DF21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4DB-B2F2-484D-9DD0-565E692B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360-1046-4B86-83B0-4A7BB3C6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60E-EBDA-4779-AA49-FA300456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3A3-452D-4B83-A24D-C5582A1E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6367-7EE1-408C-8A93-31E947F7E91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152280"/>
            <a:ext cx="5943600" cy="1600200"/>
          </a:xfrm>
          <a:prstGeom prst="roundRect">
            <a:avLst>
              <a:gd name="adj" fmla="val 8940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6120" y="4552920"/>
            <a:ext cx="5334120" cy="2095560"/>
          </a:xfrm>
          <a:prstGeom prst="roundRect">
            <a:avLst>
              <a:gd name="adj" fmla="val 6042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TT-JTCナミキ中太楷書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okyaku-image" descr=""/>
          <p:cNvPicPr/>
          <p:nvPr/>
        </p:nvPicPr>
        <p:blipFill>
          <a:blip r:embed="rId1"/>
          <a:stretch/>
        </p:blipFill>
        <p:spPr>
          <a:xfrm>
            <a:off x="4181400" y="485784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6120" y="1981080"/>
            <a:ext cx="9401400" cy="2438640"/>
          </a:xfrm>
          <a:prstGeom prst="roundRect">
            <a:avLst>
              <a:gd name="adj" fmla="val 6042"/>
            </a:avLst>
          </a:prstGeom>
          <a:solidFill>
            <a:srgbClr val="ff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84680" y="6292800"/>
            <a:ext cx="2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06"/>
          <p:cNvSpPr/>
          <p:nvPr/>
        </p:nvSpPr>
        <p:spPr>
          <a:xfrm>
            <a:off x="38160" y="38160"/>
            <a:ext cx="9835920" cy="6788160"/>
          </a:xfrm>
          <a:prstGeom prst="roundRect">
            <a:avLst>
              <a:gd name="adj" fmla="val 1333"/>
            </a:avLst>
          </a:prstGeom>
          <a:noFill/>
          <a:ln w="15840">
            <a:solidFill>
              <a:srgbClr val="000080"/>
            </a:solidFill>
            <a:miter/>
          </a:ln>
          <a:effectLst>
            <a:outerShdw dist="17819" dir="2700000" blurRad="0" rotWithShape="0">
              <a:srgbClr val="868e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114880"/>
            <a:ext cx="1866960" cy="838080"/>
          </a:xfrm>
          <a:prstGeom prst="ellipse">
            <a:avLst/>
          </a:pr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16ILAC13" descr=""/>
          <p:cNvPicPr/>
          <p:nvPr/>
        </p:nvPicPr>
        <p:blipFill>
          <a:blip r:embed="rId2"/>
          <a:stretch/>
        </p:blipFill>
        <p:spPr>
          <a:xfrm>
            <a:off x="2438280" y="5124600"/>
            <a:ext cx="1143000" cy="85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19200" y="4648320"/>
            <a:ext cx="1143000" cy="38088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3240" y="4648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事務次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for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顧客大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90840" y="5191200"/>
            <a:ext cx="695160" cy="31572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99ccff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90840" y="524844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8560" y="6064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会員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・売上履歴入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4762440"/>
            <a:ext cx="942840" cy="21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680" y="4734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iPad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で伝票入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2200" y="5191200"/>
            <a:ext cx="695520" cy="31572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99ccff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2200" y="52434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90800" y="6010200"/>
            <a:ext cx="2971800" cy="600120"/>
          </a:xfrm>
          <a:prstGeom prst="cloudCallout">
            <a:avLst>
              <a:gd name="adj1" fmla="val -42736"/>
              <a:gd name="adj2" fmla="val -11666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599840" y="5591160"/>
            <a:ext cx="695160" cy="31608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ffff99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638680"/>
            <a:ext cx="800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3571560" y="5591160"/>
            <a:ext cx="695160" cy="316080"/>
          </a:xfrm>
          <a:custGeom>
            <a:avLst/>
            <a:gdLst/>
            <a:ahLst/>
            <a:rect l="l" t="t" r="r" b="b"/>
            <a:pathLst>
              <a:path w="511" h="116">
                <a:moveTo>
                  <a:pt x="0" y="87"/>
                </a:moveTo>
                <a:lnTo>
                  <a:pt x="482" y="87"/>
                </a:lnTo>
                <a:lnTo>
                  <a:pt x="482" y="116"/>
                </a:lnTo>
                <a:lnTo>
                  <a:pt x="511" y="58"/>
                </a:lnTo>
                <a:lnTo>
                  <a:pt x="482" y="0"/>
                </a:lnTo>
                <a:lnTo>
                  <a:pt x="482" y="29"/>
                </a:lnTo>
                <a:lnTo>
                  <a:pt x="0" y="29"/>
                </a:lnTo>
                <a:lnTo>
                  <a:pt x="0" y="87"/>
                </a:lnTo>
                <a:close/>
              </a:path>
            </a:pathLst>
          </a:custGeom>
          <a:solidFill>
            <a:srgbClr val="ffff99"/>
          </a:solidFill>
          <a:ln cap="rnd"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0360" y="564372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6153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ＷＥＢサーバはお客様の事務所へ設置する以外に、弊社サーバ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一部レンタル等で手軽に立ち上げることもできま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06676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ＴＯＰ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5360" y="2066760"/>
            <a:ext cx="84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会員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38760" y="205740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商品別数量月次推移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25000" y="205740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データ操作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5715000" y="5124600"/>
            <a:ext cx="39625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4"/>
          <p:cNvSpPr/>
          <p:nvPr/>
        </p:nvSpPr>
        <p:spPr>
          <a:xfrm>
            <a:off x="6543720" y="6313320"/>
            <a:ext cx="27907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本 　社　〒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852-8105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長崎県長崎市目覚町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3-10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　　　　　　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095(813)0781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095(813)087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86680" y="6051600"/>
            <a:ext cx="3276360" cy="29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Arial"/>
              </a:rPr>
              <a:t>株式会社インターメディア・プランニン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ピクチャ 1"/>
          <p:cNvGraphicFramePr/>
          <p:nvPr/>
        </p:nvGraphicFramePr>
        <p:xfrm>
          <a:off x="5962680" y="6119640"/>
          <a:ext cx="50472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ピクチャ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2680" y="6119640"/>
                    <a:ext cx="5047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791320" y="5208480"/>
            <a:ext cx="79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お問い合せ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5956200"/>
            <a:ext cx="79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開発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24360" y="593424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" y="1704960"/>
            <a:ext cx="641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99"/>
                </a:solidFill>
                <a:latin typeface="ＭＳ ゴシック"/>
                <a:ea typeface="ＭＳ ゴシック"/>
              </a:rPr>
              <a:t>iPad</a:t>
            </a:r>
            <a:r>
              <a:rPr b="1" lang="ja-JP" sz="1200" spc="-1" strike="noStrike">
                <a:solidFill>
                  <a:srgbClr val="003399"/>
                </a:solidFill>
                <a:latin typeface="ＭＳ ゴシック"/>
                <a:ea typeface="ＭＳ ゴシック"/>
              </a:rPr>
              <a:t>を使って､会員入力・売上履歴入力ができる</a:t>
            </a:r>
            <a:r>
              <a:rPr b="1" lang="ja-JP" sz="1200" spc="-1" strike="noStrike">
                <a:solidFill>
                  <a:srgbClr val="003399"/>
                </a:solidFill>
                <a:latin typeface="ＭＳ ゴシック"/>
                <a:ea typeface="ＭＳ ゴシック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6676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売上入力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05320" y="2066760"/>
            <a:ext cx="9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HGPｺﾞｼｯｸM"/>
              </a:rPr>
              <a:t>会員一覧画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graphic_fm_go_ipad" descr=""/>
          <p:cNvPicPr/>
          <p:nvPr/>
        </p:nvPicPr>
        <p:blipFill>
          <a:blip r:embed="rId5"/>
          <a:stretch/>
        </p:blipFill>
        <p:spPr>
          <a:xfrm>
            <a:off x="704880" y="5038560"/>
            <a:ext cx="826920" cy="981360"/>
          </a:xfrm>
          <a:prstGeom prst="rect">
            <a:avLst/>
          </a:prstGeom>
          <a:ln w="0">
            <a:noFill/>
          </a:ln>
        </p:spPr>
      </p:pic>
      <p:pic>
        <p:nvPicPr>
          <p:cNvPr id="80" name="filemakerpro12" descr=""/>
          <p:cNvPicPr/>
          <p:nvPr/>
        </p:nvPicPr>
        <p:blipFill>
          <a:blip r:embed="rId6"/>
          <a:stretch/>
        </p:blipFill>
        <p:spPr>
          <a:xfrm>
            <a:off x="2733840" y="5305320"/>
            <a:ext cx="284040" cy="34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34760" y="5505480"/>
            <a:ext cx="657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T-JTCナミキ中太楷書P"/>
              </a:rPr>
              <a:t>FileMaker Pr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1080" y="5924520"/>
            <a:ext cx="657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T-JTCナミキ中太楷書P"/>
              </a:rPr>
              <a:t>FileMaker G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86560" y="4495680"/>
            <a:ext cx="3962160" cy="561960"/>
          </a:xfrm>
          <a:prstGeom prst="rect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05440" y="449568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HGPｺﾞｼｯｸE"/>
              </a:rPr>
              <a:t>ＷＥＢ事務次官を使えばｉＰａｄで顧客大臣の伝票入力をどこにいても実行できます。お互いに省力化が進むだけでなく企業のイメージアップにもつながります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G_0073" descr=""/>
          <p:cNvPicPr/>
          <p:nvPr/>
        </p:nvPicPr>
        <p:blipFill>
          <a:blip r:embed="rId7"/>
          <a:stretch/>
        </p:blipFill>
        <p:spPr>
          <a:xfrm>
            <a:off x="371520" y="2286000"/>
            <a:ext cx="148572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86" name="IMG_0074" descr=""/>
          <p:cNvPicPr/>
          <p:nvPr/>
        </p:nvPicPr>
        <p:blipFill>
          <a:blip r:embed="rId8"/>
          <a:stretch/>
        </p:blipFill>
        <p:spPr>
          <a:xfrm>
            <a:off x="1914480" y="2286000"/>
            <a:ext cx="148608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87" name="IMG_0075" descr=""/>
          <p:cNvPicPr/>
          <p:nvPr/>
        </p:nvPicPr>
        <p:blipFill>
          <a:blip r:embed="rId9"/>
          <a:stretch/>
        </p:blipFill>
        <p:spPr>
          <a:xfrm>
            <a:off x="3467160" y="2286000"/>
            <a:ext cx="148572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88" name="IMG_0076" descr=""/>
          <p:cNvPicPr/>
          <p:nvPr/>
        </p:nvPicPr>
        <p:blipFill>
          <a:blip r:embed="rId10"/>
          <a:stretch/>
        </p:blipFill>
        <p:spPr>
          <a:xfrm>
            <a:off x="8105760" y="2266920"/>
            <a:ext cx="148608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228600" y="190440"/>
            <a:ext cx="3381480" cy="1552680"/>
          </a:xfrm>
          <a:prstGeom prst="rect">
            <a:avLst/>
          </a:prstGeom>
          <a:ln w="0">
            <a:noFill/>
          </a:ln>
        </p:spPr>
      </p:pic>
      <p:pic>
        <p:nvPicPr>
          <p:cNvPr id="90" name="point" descr="ここがポイント"/>
          <p:cNvPicPr/>
          <p:nvPr/>
        </p:nvPicPr>
        <p:blipFill>
          <a:blip r:embed="rId12"/>
          <a:stretch/>
        </p:blipFill>
        <p:spPr>
          <a:xfrm>
            <a:off x="3886200" y="326880"/>
            <a:ext cx="533520" cy="463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71840" y="324000"/>
            <a:ext cx="51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WEB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事務次官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fo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顧客大臣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」を使えば、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iPad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で顧客大臣の伝票入力をどこにいても実行できます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9080" y="762120"/>
            <a:ext cx="49528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cc"/>
                </a:solidFill>
                <a:latin typeface="ＭＳ Ｐゴシック"/>
              </a:rPr>
              <a:t>顧客大臣で打ったデータの確認はもちろ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cc"/>
                </a:solidFill>
                <a:latin typeface="ＭＳ Ｐゴシック"/>
              </a:rPr>
              <a:t>ｉ</a:t>
            </a:r>
            <a:r>
              <a:rPr b="1" lang="ja-JP" sz="1600" spc="-1" strike="noStrike">
                <a:solidFill>
                  <a:srgbClr val="0000cc"/>
                </a:solidFill>
                <a:latin typeface="ＭＳ Ｐゴシック"/>
              </a:rPr>
              <a:t>Pad</a:t>
            </a:r>
            <a:r>
              <a:rPr b="1" lang="ja-JP" sz="1600" spc="-1" strike="noStrike">
                <a:solidFill>
                  <a:srgbClr val="0000cc"/>
                </a:solidFill>
                <a:latin typeface="ＭＳ Ｐゴシック"/>
              </a:rPr>
              <a:t>でデータの「新規入力」「修正」がで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cc"/>
                </a:solidFill>
                <a:latin typeface="ＭＳ Ｐゴシック"/>
              </a:rPr>
              <a:t>顧客大臣に反映します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G_0077" descr=""/>
          <p:cNvPicPr/>
          <p:nvPr/>
        </p:nvPicPr>
        <p:blipFill>
          <a:blip r:embed="rId13"/>
          <a:stretch/>
        </p:blipFill>
        <p:spPr>
          <a:xfrm>
            <a:off x="5010120" y="2276640"/>
            <a:ext cx="148608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94" name="IMG_0078" descr=""/>
          <p:cNvPicPr/>
          <p:nvPr/>
        </p:nvPicPr>
        <p:blipFill>
          <a:blip r:embed="rId14"/>
          <a:stretch/>
        </p:blipFill>
        <p:spPr>
          <a:xfrm>
            <a:off x="6562800" y="2266920"/>
            <a:ext cx="1485720" cy="198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8:31:15Z</dcterms:created>
  <dc:creator>momota</dc:creator>
  <dc:description/>
  <dc:language>en-US</dc:language>
  <cp:lastModifiedBy>IMP</cp:lastModifiedBy>
  <dcterms:modified xsi:type="dcterms:W3CDTF">2012-08-01T04:50:59Z</dcterms:modified>
  <cp:revision>203</cp:revision>
  <dc:subject/>
  <dc:title>スライド 1</dc:title>
</cp:coreProperties>
</file>