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393-6E62-4354-938C-2E83BD23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27F-56B0-44C5-B1B4-A0755080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87F-57F2-4F7B-982B-EAB793D4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795-F048-41DF-9C57-8A8B7070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E7A-B3D0-4418-8E9A-426A520B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BFE-DE90-42CA-B98E-DC8E5FE3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FCA-DAEE-48C2-A2A3-2E369321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F30-F053-4787-BD39-DEEE4790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F68-F7DF-476B-8E86-367DE27D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F05-4378-4355-86D3-010097B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F1C-AC85-4A19-A8D0-2B52F435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4E3-7DBA-4C94-9192-722A8D3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4124-5E6B-4975-BAD0-A9CC9C791F0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6120" y="4552920"/>
            <a:ext cx="5334120" cy="2095560"/>
          </a:xfrm>
          <a:prstGeom prst="roundRect">
            <a:avLst>
              <a:gd name="adj" fmla="val 6042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TT-JTCナミキ中太楷書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84680" y="6292800"/>
            <a:ext cx="2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06"/>
          <p:cNvSpPr/>
          <p:nvPr/>
        </p:nvSpPr>
        <p:spPr>
          <a:xfrm>
            <a:off x="38160" y="38160"/>
            <a:ext cx="9835920" cy="6788160"/>
          </a:xfrm>
          <a:prstGeom prst="roundRect">
            <a:avLst>
              <a:gd name="adj" fmla="val 1333"/>
            </a:avLst>
          </a:prstGeom>
          <a:noFill/>
          <a:ln w="15840">
            <a:solidFill>
              <a:srgbClr val="000080"/>
            </a:solidFill>
            <a:miter/>
          </a:ln>
          <a:effectLst>
            <a:outerShdw dist="17819" dir="2700000" blurRad="0" rotWithShape="0">
              <a:srgbClr val="868e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200160"/>
            <a:ext cx="4953240" cy="1819080"/>
          </a:xfrm>
          <a:prstGeom prst="roundRect">
            <a:avLst>
              <a:gd name="adj" fmla="val 8940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52360" y="5114880"/>
            <a:ext cx="1866960" cy="838080"/>
          </a:xfrm>
          <a:prstGeom prst="ellipse">
            <a:avLst/>
          </a:prstGeom>
          <a:solidFill>
            <a:srgbClr val="ff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6ILAC13" descr=""/>
          <p:cNvPicPr/>
          <p:nvPr/>
        </p:nvPicPr>
        <p:blipFill>
          <a:blip r:embed="rId1"/>
          <a:stretch/>
        </p:blipFill>
        <p:spPr>
          <a:xfrm>
            <a:off x="2438280" y="5124600"/>
            <a:ext cx="1143000" cy="85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19200" y="4648320"/>
            <a:ext cx="1143000" cy="380880"/>
          </a:xfrm>
          <a:prstGeom prst="ellips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3240" y="4648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販売事務次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with iP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2200" y="5191200"/>
            <a:ext cx="695160" cy="31572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99ccff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9440" y="52484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売上伝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6720" y="60674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売上伝票の入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カテゴリーで検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キーワードで検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0120" y="5057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4762440"/>
            <a:ext cx="942840" cy="2142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6440" y="4734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iPad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で売上伝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5191200"/>
            <a:ext cx="695520" cy="31572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99ccff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2200" y="52434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ndex_li001_nx" descr="販売大臣NX"/>
          <p:cNvPicPr/>
          <p:nvPr/>
        </p:nvPicPr>
        <p:blipFill>
          <a:blip r:embed="rId3"/>
          <a:stretch/>
        </p:blipFill>
        <p:spPr>
          <a:xfrm>
            <a:off x="4314960" y="4952880"/>
            <a:ext cx="990360" cy="1067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90800" y="6010200"/>
            <a:ext cx="2971800" cy="600120"/>
          </a:xfrm>
          <a:prstGeom prst="cloudCallout">
            <a:avLst>
              <a:gd name="adj1" fmla="val -42736"/>
              <a:gd name="adj2" fmla="val -11666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1742760" y="5591160"/>
            <a:ext cx="695160" cy="31608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ffff99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71560" y="5629320"/>
            <a:ext cx="800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マス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3571560" y="5591160"/>
            <a:ext cx="695160" cy="31608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ffff99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0360" y="564372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マス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61531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ＷＥＢサーバはお客様の事務所へ設置する以外に、弊社サーバ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一部レンタル等で手軽に立ち上げることもできま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6120" y="2133720"/>
            <a:ext cx="9401400" cy="2286000"/>
          </a:xfrm>
          <a:prstGeom prst="roundRect">
            <a:avLst>
              <a:gd name="adj" fmla="val 6042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oint" descr="ここがポイント"/>
          <p:cNvPicPr/>
          <p:nvPr/>
        </p:nvPicPr>
        <p:blipFill>
          <a:blip r:embed="rId4"/>
          <a:stretch/>
        </p:blipFill>
        <p:spPr>
          <a:xfrm>
            <a:off x="5000760" y="326880"/>
            <a:ext cx="533160" cy="463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85800" y="2352600"/>
            <a:ext cx="1486080" cy="198144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57200" y="3800520"/>
            <a:ext cx="1968480" cy="550800"/>
          </a:xfrm>
          <a:prstGeom prst="wedgeRectCallout">
            <a:avLst>
              <a:gd name="adj1" fmla="val -19675"/>
              <a:gd name="adj2" fmla="val -260087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04720" y="3857760"/>
            <a:ext cx="1866960" cy="446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3800" y="4143240"/>
            <a:ext cx="1824120" cy="14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13372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得意先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162240" y="2352600"/>
            <a:ext cx="1486080" cy="198144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2962440" y="3076560"/>
            <a:ext cx="1328400" cy="1274760"/>
          </a:xfrm>
          <a:prstGeom prst="wedgeRectCallout">
            <a:avLst>
              <a:gd name="adj1" fmla="val 43666"/>
              <a:gd name="adj2" fmla="val -61708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3052800" y="3165480"/>
            <a:ext cx="1166760" cy="1116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57480" y="3686040"/>
            <a:ext cx="1162080" cy="11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133720"/>
            <a:ext cx="84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商品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5133960" y="2352600"/>
            <a:ext cx="1486080" cy="198144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5419800" y="2133720"/>
            <a:ext cx="92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商品選択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648240"/>
            <a:ext cx="1676520" cy="604800"/>
          </a:xfrm>
          <a:prstGeom prst="wedgeRectCallout">
            <a:avLst>
              <a:gd name="adj1" fmla="val -26041"/>
              <a:gd name="adj2" fmla="val -100129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5162400" y="3724200"/>
            <a:ext cx="1428840" cy="455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228600" y="228600"/>
            <a:ext cx="4286160" cy="157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02440" y="3753000"/>
            <a:ext cx="360360" cy="115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7067520" y="2352600"/>
            <a:ext cx="1486080" cy="198144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45812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検索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25000" y="2305080"/>
            <a:ext cx="1028520" cy="1425600"/>
          </a:xfrm>
          <a:prstGeom prst="wedgeRectCallout">
            <a:avLst>
              <a:gd name="adj1" fmla="val -46912"/>
              <a:gd name="adj2" fmla="val -25722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3"/>
          <a:stretch/>
        </p:blipFill>
        <p:spPr>
          <a:xfrm>
            <a:off x="8420040" y="2362320"/>
            <a:ext cx="862200" cy="128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38960" y="2124000"/>
            <a:ext cx="97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【商品グループ検索】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3838680"/>
            <a:ext cx="1905120" cy="341280"/>
          </a:xfrm>
          <a:prstGeom prst="wedgeRectCallout">
            <a:avLst>
              <a:gd name="adj1" fmla="val 11500"/>
              <a:gd name="adj2" fmla="val -42092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7553160" y="3924360"/>
            <a:ext cx="1714680" cy="17928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7381800" y="3666960"/>
            <a:ext cx="97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【文字列検索】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048120"/>
            <a:ext cx="695160" cy="715680"/>
          </a:xfrm>
          <a:prstGeom prst="wedgeRectCallout">
            <a:avLst>
              <a:gd name="adj1" fmla="val -103425"/>
              <a:gd name="adj2" fmla="val -24500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2181240"/>
            <a:ext cx="684000" cy="838080"/>
          </a:xfrm>
          <a:prstGeom prst="wedgeRectCallout">
            <a:avLst>
              <a:gd name="adj1" fmla="val -103828"/>
              <a:gd name="adj2" fmla="val 30300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1981080" y="2238480"/>
            <a:ext cx="530280" cy="7142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16"/>
          <a:stretch/>
        </p:blipFill>
        <p:spPr>
          <a:xfrm>
            <a:off x="1990800" y="3171960"/>
            <a:ext cx="530280" cy="533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943280" y="3011400"/>
            <a:ext cx="761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【倉庫選択】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5715000" y="5124600"/>
            <a:ext cx="396252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4"/>
          <p:cNvSpPr/>
          <p:nvPr/>
        </p:nvSpPr>
        <p:spPr>
          <a:xfrm>
            <a:off x="6543720" y="6313320"/>
            <a:ext cx="27907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本 　社　〒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852-8105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長崎県長崎市目覚町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3-10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　　　　　　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095(813)0781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095(813)087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86680" y="6051600"/>
            <a:ext cx="3276360" cy="29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Arial"/>
              </a:rPr>
              <a:t>株式会社インターメディア・プランニン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ピクチャ 1"/>
          <p:cNvGraphicFramePr/>
          <p:nvPr/>
        </p:nvGraphicFramePr>
        <p:xfrm>
          <a:off x="5962680" y="6119640"/>
          <a:ext cx="504720" cy="38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9" name="ピクチャ 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62680" y="6119640"/>
                    <a:ext cx="50472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5791320" y="5208480"/>
            <a:ext cx="79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お問い合せ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5956200"/>
            <a:ext cx="79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開発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593424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34080" y="4572000"/>
            <a:ext cx="3809880" cy="4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10400" y="4572000"/>
            <a:ext cx="3466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※</a:t>
            </a:r>
            <a:r>
              <a:rPr b="0" lang="ja-JP" sz="10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得意先に</a:t>
            </a:r>
            <a:r>
              <a:rPr b="0" lang="ja-JP" sz="1000" spc="-1" strike="noStrike">
                <a:solidFill>
                  <a:srgbClr val="ffff00"/>
                </a:solidFill>
                <a:latin typeface="Times New Roman"/>
                <a:ea typeface="ＭＳ ゴシック"/>
              </a:rPr>
              <a:t>ID</a:t>
            </a:r>
            <a:r>
              <a:rPr b="0" lang="ja-JP" sz="10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を発行し直接注文を入力していただく方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「</a:t>
            </a:r>
            <a:r>
              <a:rPr b="0" lang="ja-JP" sz="12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Type-A</a:t>
            </a:r>
            <a:r>
              <a:rPr b="0" lang="ja-JP" sz="12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」</a:t>
            </a:r>
            <a:r>
              <a:rPr b="0" lang="ja-JP" sz="10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もござ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200" y="1752480"/>
            <a:ext cx="481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3399"/>
                </a:solidFill>
                <a:latin typeface="Osaka-UI"/>
                <a:ea typeface="Osaka-UI"/>
              </a:rPr>
              <a:t>iPad</a:t>
            </a:r>
            <a:r>
              <a:rPr b="1" lang="ja-JP" sz="1500" spc="-1" strike="noStrike">
                <a:solidFill>
                  <a:srgbClr val="003399"/>
                </a:solidFill>
                <a:latin typeface="Osaka-UI"/>
                <a:ea typeface="Osaka-UI"/>
              </a:rPr>
              <a:t>・</a:t>
            </a:r>
            <a:r>
              <a:rPr b="1" lang="ja-JP" sz="1500" spc="-1" strike="noStrike">
                <a:solidFill>
                  <a:srgbClr val="003399"/>
                </a:solidFill>
                <a:latin typeface="Osaka-UI"/>
                <a:ea typeface="Osaka-UI"/>
              </a:rPr>
              <a:t>iPhone</a:t>
            </a:r>
            <a:r>
              <a:rPr b="1" lang="ja-JP" sz="1400" spc="-1" strike="noStrike">
                <a:solidFill>
                  <a:srgbClr val="003399"/>
                </a:solidFill>
                <a:latin typeface="Osaka-UI"/>
                <a:ea typeface="Osaka-UI"/>
              </a:rPr>
              <a:t>を使って､何時でも何処でも売上出来る</a:t>
            </a:r>
            <a:r>
              <a:rPr b="1" lang="ja-JP" sz="1400" spc="-1" strike="noStrike">
                <a:solidFill>
                  <a:srgbClr val="003399"/>
                </a:solidFill>
                <a:latin typeface="Osaka-UI"/>
                <a:ea typeface="Osaka-UI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24560" y="333360"/>
            <a:ext cx="407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99"/>
                </a:solidFill>
                <a:latin typeface="HGSｺﾞｼｯｸE"/>
                <a:ea typeface="HGSｺﾞｼｯｸE"/>
              </a:rPr>
              <a:t>「販売事務次官 </a:t>
            </a:r>
            <a:r>
              <a:rPr b="1" lang="ja-JP" sz="1200" spc="-1" strike="noStrike">
                <a:solidFill>
                  <a:srgbClr val="003399"/>
                </a:solidFill>
                <a:latin typeface="Times New Roman"/>
                <a:ea typeface="HGSｺﾞｼｯｸE"/>
              </a:rPr>
              <a:t>with iPad</a:t>
            </a:r>
            <a:r>
              <a:rPr b="0" lang="ja-JP" sz="1200" spc="-1" strike="noStrike">
                <a:solidFill>
                  <a:srgbClr val="003399"/>
                </a:solidFill>
                <a:latin typeface="HGSｺﾞｼｯｸE"/>
                <a:ea typeface="HGSｺﾞｼｯｸE"/>
              </a:rPr>
              <a:t> </a:t>
            </a:r>
            <a:r>
              <a:rPr b="0" lang="ja-JP" sz="1200" spc="-1" strike="noStrike">
                <a:solidFill>
                  <a:srgbClr val="003399"/>
                </a:solidFill>
                <a:latin typeface="HGSｺﾞｼｯｸE"/>
                <a:ea typeface="HGSｺﾞｼｯｸE"/>
              </a:rPr>
              <a:t>」を使えば、</a:t>
            </a:r>
            <a:r>
              <a:rPr b="1" lang="ja-JP" sz="1200" spc="-1" strike="noStrike">
                <a:solidFill>
                  <a:srgbClr val="003399"/>
                </a:solidFill>
                <a:latin typeface="Times New Roman"/>
                <a:ea typeface="HGSｺﾞｼｯｸE"/>
              </a:rPr>
              <a:t>iPad</a:t>
            </a:r>
            <a:r>
              <a:rPr b="0" lang="ja-JP" sz="1200" spc="-1" strike="noStrike">
                <a:solidFill>
                  <a:srgbClr val="003399"/>
                </a:solidFill>
                <a:latin typeface="HGSｺﾞｼｯｸE"/>
                <a:ea typeface="HGSｺﾞｼｯｸE"/>
              </a:rPr>
              <a:t>で販売大臣の売上伝票入力をどこにいても実行できます</a:t>
            </a:r>
            <a:r>
              <a:rPr b="0" lang="ja-JP" sz="1200" spc="-1" strike="noStrike">
                <a:solidFill>
                  <a:srgbClr val="003399"/>
                </a:solidFill>
                <a:latin typeface="HGSｺﾞｼｯｸE"/>
                <a:ea typeface="HGSｺﾞｼｯｸE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809640"/>
            <a:ext cx="4419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自社営業マンが出先で社内で何処でも大臣と連動（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3G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ｉ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Fi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回線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「担当者選択」→「得意先選択」→「商品選択」と、操作は指先タップが中心！  　出先での注文を手軽に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その場で「在庫」や「得意先売掛残」「限度与信額」が確認でき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「掛売上」「現金売上」「仮売上」「受注」の入力ができ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設定間隔で「得意先の現在残高」「商品の在庫データ」を自動更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8:31:15Z</dcterms:created>
  <dc:creator>momota</dc:creator>
  <dc:description/>
  <dc:language>en-US</dc:language>
  <cp:lastModifiedBy>IMP</cp:lastModifiedBy>
  <dcterms:modified xsi:type="dcterms:W3CDTF">2011-10-11T06:53:48Z</dcterms:modified>
  <cp:revision>138</cp:revision>
  <dc:subject/>
  <dc:title>スライド 1</dc:title>
</cp:coreProperties>
</file>