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82A-B79C-4413-AB1B-763B201A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458-5384-4156-B8B2-0E4BA227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C6A-36D7-403D-8CEF-A6776CD3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DAD-9ECC-4415-8B3E-98F05739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7FD-5C9B-4485-9CCE-30BD40AF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EA5-F6D2-4B15-9B44-98BBF5E8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6DD-83D3-490A-B27D-81F26DFD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427-4309-4721-89E1-450C17DA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949-FBA5-41A3-8D06-54147827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9A7-4A66-45D2-9FB1-6956DEC9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BF3-A4C5-444E-AB09-459B5306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8C7-3D30-4B66-ACE2-82CC2027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2268-6AB6-414B-9C8C-A09000FDF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5900760" cy="588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1159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トップ画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71800" y="1600200"/>
            <a:ext cx="500040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189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別数量月次推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62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右に項目がまだありま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19240" y="1600200"/>
            <a:ext cx="510372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2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右に項目がまだありま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89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別金額月次推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52360" y="2266920"/>
            <a:ext cx="6837480" cy="3191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1159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一覧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4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右に項目がまだありま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2880" y="2590920"/>
            <a:ext cx="6258240" cy="2543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260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設定画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04920" y="2138400"/>
            <a:ext cx="6732720" cy="3448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18900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設定画面（自社データ登録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4883040" cy="564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189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登録画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89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下にまだ項目がありま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157800" cy="444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18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売上履歴画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1120" y="1773360"/>
            <a:ext cx="7780320" cy="389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33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表形式入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765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右に項目がまだありま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19000" y="1962000"/>
            <a:ext cx="7504200" cy="3800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売上履歴入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62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右に項目がまだありま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57320" y="2376360"/>
            <a:ext cx="702792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26028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登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62120" y="2276640"/>
            <a:ext cx="5819760" cy="317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189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分類登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5280" y="2395440"/>
            <a:ext cx="7812000" cy="2933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1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4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右に項目がまだありま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03400" y="2409840"/>
            <a:ext cx="6935760" cy="2905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26028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売上履歴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62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右に項目がまだありま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55:47Z</dcterms:created>
  <dc:creator>acer01</dc:creator>
  <dc:description/>
  <dc:language>en-US</dc:language>
  <cp:lastModifiedBy>acer01</cp:lastModifiedBy>
  <dcterms:modified xsi:type="dcterms:W3CDTF">2012-02-08T08:15:29Z</dcterms:modified>
  <cp:revision>3</cp:revision>
  <dc:subject/>
  <dc:title>スライド 1</dc:title>
</cp:coreProperties>
</file>