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8C4-C2BD-4848-86FA-4CFFCB9C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F9B-15AB-4915-925B-9B2D7C91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1B7-4BC5-49AB-91BC-D6F6A2E7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5ED-3C98-4EF4-B1B1-298DDD30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79B-443C-4035-B889-9448BFF0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103-55F1-486F-9C86-F9DD7828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CF6-4315-4812-8E39-BAF69A59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14D-6599-4132-AE34-CA254E3C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32E-9A5E-4338-B94B-CA0FE51F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5F8-2384-4C90-986F-07E5C066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7F6-922E-4D47-AF87-4CF2AD3F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2A9-EB68-406A-A503-75EEEAAF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7897-195B-4C3E-8CE7-54A3DA2193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600200"/>
          <a:ext cx="58640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58640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22280" y="380880"/>
          <a:ext cx="574992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380880"/>
                    <a:ext cx="574992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04920" y="76320"/>
          <a:ext cx="6859440" cy="838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320"/>
                    <a:ext cx="685944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8600" y="0"/>
          <a:ext cx="64008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64008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71440" y="152280"/>
          <a:ext cx="631512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52280"/>
                    <a:ext cx="631512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5840" y="165240"/>
          <a:ext cx="634356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65240"/>
                    <a:ext cx="634356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228600"/>
          <a:ext cx="6272280" cy="853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6272280" cy="853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4:22:17Z</dcterms:created>
  <dc:creator>IMP</dc:creator>
  <dc:description/>
  <dc:language>en-US</dc:language>
  <cp:lastModifiedBy>IMP</cp:lastModifiedBy>
  <dcterms:modified xsi:type="dcterms:W3CDTF">2012-02-08T04:27:29Z</dcterms:modified>
  <cp:revision>2</cp:revision>
  <dc:subject/>
  <dc:title>PowerPoint プレゼンテーション</dc:title>
</cp:coreProperties>
</file>