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5B8-51F7-49C5-BDCA-19A5D675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0EE-E135-43F9-AF07-E3B5D5B2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383-80FC-4178-B959-C6D9D84B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B5C-A554-46F4-AC2D-EE70E4B2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2520" y="115920"/>
            <a:ext cx="936180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6C3-DC69-4C3E-A534-0C5B5FB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8D1-290E-4359-A0DB-F4D2B77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0F3-4BE2-4DB6-8463-1BF1F346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EE1-D010-49CB-BCBA-80744C3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115920"/>
            <a:ext cx="936180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F6A-8D04-4E89-B8D7-014D804F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F42-6FAA-493A-BDA0-FF28C74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2CC-9249-40A3-AC13-E3CE78A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863-40BF-4094-B6DE-C59A612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2520" y="6597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3DE-165C-48F5-AE43-BC54ABAA59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3920" y="6597360"/>
            <a:ext cx="31370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2760" y="6597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8D12-B67E-41A6-8888-B438B7EB69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1440" y="549360"/>
            <a:ext cx="9361440" cy="14292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1440" y="6524640"/>
            <a:ext cx="9361440" cy="71280"/>
          </a:xfrm>
          <a:prstGeom prst="rect">
            <a:avLst/>
          </a:prstGeom>
          <a:solidFill>
            <a:srgbClr val="4d4d4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349000"/>
            <a:ext cx="84200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96920" y="5059440"/>
            <a:ext cx="23115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91B8-5698-403D-9AFD-E17DADE26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4627440"/>
            <a:ext cx="3136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1440" y="3357720"/>
            <a:ext cx="9361440" cy="14256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349360"/>
            <a:ext cx="84200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 ＷＥＢ事務次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leMake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作マニュアル 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81480" y="5478480"/>
            <a:ext cx="762120" cy="56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43600" y="57150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60958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2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月作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2960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er 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（商品詳細）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84880" y="141300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商品を送るようにし、リストから商品を選んでダブルクリックすると、上の画面が開き、ここで商品名、部門、単価等の確認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像は、大臣から持ってきたものを設定しますが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から他の画像を選択することも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8880" y="1125360"/>
            <a:ext cx="3697200" cy="4784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84520" y="3357720"/>
            <a:ext cx="36036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1616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0520" y="5589720"/>
            <a:ext cx="3528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92520" y="501336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変更を行った際は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取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変更を反映せずにこの画面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526-62CB-46B8-B92D-45546B880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規定値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5800" y="3645000"/>
            <a:ext cx="885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監視間隔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出力されたデータを取り込む際に、何分間隔でデータを確認し、取り込むか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削除日数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定した日数よりも前のデータを、処理済のデータ一覧に表示しないように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パス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グラムの置かれたフォルダを指定します。ここが正確に指定されていない場合、マスタファイルの更新、売上データの受信が正確に行わ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49600" y="2060640"/>
            <a:ext cx="2158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5800" y="595008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登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ボタンを押すと、変更を反映します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押すと、反映せずに設定を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88880" y="981000"/>
            <a:ext cx="5381640" cy="24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947-38F9-4A08-8756-66E1F2F4C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大臣設定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0160" y="155736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04880" y="292428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5000" y="3814920"/>
            <a:ext cx="1008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4520" y="1197000"/>
            <a:ext cx="439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現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で、現場をどれに割り当てているか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臣見積データ受信フォルダ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で見積伝票データを出力した際、指定したフォルダをここで指定します。その下のファイル名の欄に、その際のファイル名を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見積データ出力フォルダ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入力された見積伝票データを、販売大臣用に変換したファイルを置く場所を指定します。ファイル名は、その際になんと言う名前で登録するか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5800" y="580536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登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ボタンを押すと、変更を反映します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キャンセル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押すと、反映せずに設定を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290-3417-4F61-A149-460633748F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6264360" cy="4418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60520" y="1844640"/>
            <a:ext cx="2971800" cy="1724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936880" y="357336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944880" y="1844640"/>
            <a:ext cx="2971800" cy="1724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12880" y="981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052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ーで処理を行うと、各メッセージが表示され、処理が完了すると更新しました、とメッセージ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5B8-88A7-4CE0-86B2-70AA27254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サーバー―見積伝票更新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2880" y="4797360"/>
            <a:ext cx="936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のデータは、自動で取得してくることが出来ません。販売大臣で、見積伝票のデータを出力し、その出力されたデータを、事務次官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leMaker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用に変換し、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大臣のデータ出力の方法は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ご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49240" y="227484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9720" y="316548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0520" y="1989000"/>
            <a:ext cx="424800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0816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84880" y="2133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見積のデータは、大臣設定のこの場所で指定された場所から取得して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589-C91E-4C71-B611-74636DEAC1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39800" y="765000"/>
            <a:ext cx="6854760" cy="4835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受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5800" y="5516640"/>
            <a:ext cx="914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を受信すると、トップ画面が変わり、受信したデータを見ること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の受信は、規定値で指定した時間ごとの受信と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すぐ受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受信する方法の二つ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39800" y="5084640"/>
            <a:ext cx="1009800" cy="43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B9C-6212-4D4E-A7DB-F49E0DECC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0160" y="981000"/>
            <a:ext cx="4608360" cy="3249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73600" y="1557360"/>
            <a:ext cx="5543280" cy="3922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60520" y="1557360"/>
            <a:ext cx="352872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08160" y="1773360"/>
            <a:ext cx="259236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5800" y="5445000"/>
            <a:ext cx="892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詳細を見たい伝票を選択してダブルクリックするか、下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明細参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その伝票の詳細を見ること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こで、担当者、伝票区分、倉庫、現場、数量の変更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240" y="3933720"/>
            <a:ext cx="5749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83664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画面・処理に多少の違いはありますが、仕入・売上・倉庫振替・棚卸とも、方法はほとんど同じ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A1A-EB85-45CA-A401-46D00906AF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（担当者、伝票区分、倉庫、現場変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15800" y="836640"/>
            <a:ext cx="5400720" cy="3821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08160" y="1916280"/>
            <a:ext cx="43200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06720" y="2162160"/>
            <a:ext cx="431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08160" y="2349360"/>
            <a:ext cx="43200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40160" y="1916280"/>
            <a:ext cx="43200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248520" y="765000"/>
            <a:ext cx="2857320" cy="3762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44520" y="4869000"/>
            <a:ext cx="90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項目横の変更ボタンを押すと、右図のような画面が開き、各項目ごとに、その項目に登録されたデータが表示されますので、変更したいものを選び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では、変更は反映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D42-BC3C-4235-84BB-B4706910E0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（数量変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160880" y="907920"/>
            <a:ext cx="5184720" cy="36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72880" y="836640"/>
            <a:ext cx="4381560" cy="1722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624880" y="2852640"/>
            <a:ext cx="64944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736880" y="2420640"/>
            <a:ext cx="3816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8520" y="4724280"/>
            <a:ext cx="95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量の変更を行いたい明細を選択し、数量変更ボタンを押すと、別の画面が開きますので、その画面で数量を打ちかえて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してください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行わず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で画面を終了させると、変更は反映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4520" y="2060640"/>
            <a:ext cx="4176720" cy="431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73408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数量、担当者、伝票区分、倉庫、現場いずれか変更をした場合は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更新して閉じるを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選択して、詳細画面を終了させてください。閉じただけでは、変更が反映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32160" y="4076640"/>
            <a:ext cx="12258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066-6D8F-417A-80D9-E0DDC4C9B8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39800" y="692280"/>
            <a:ext cx="6710400" cy="4733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削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5013360"/>
            <a:ext cx="863640" cy="35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0520" y="544500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られてきたデータで、間違って入力した伝票があった場合、ここで削除することも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したい伝票を選択し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伝票削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ボタンを押してください。選択したデータが削除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781-CA2A-4F41-9FF0-2AD917236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8520" y="980640"/>
            <a:ext cx="33908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事務次官起動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トップ画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メンテナン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サーバ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受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詳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削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伝票登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0840" y="4716360"/>
            <a:ext cx="798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ｉＰａ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1840" y="4481640"/>
            <a:ext cx="3978360" cy="1852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6920" y="4030560"/>
            <a:ext cx="1117080" cy="754200"/>
            <a:chOff x="4876920" y="4030560"/>
            <a:chExt cx="1117080" cy="754200"/>
          </a:xfrm>
        </p:grpSpPr>
        <p:grpSp>
          <p:nvGrpSpPr>
            <p:cNvPr id="94" name=""/>
            <p:cNvGrpSpPr/>
            <p:nvPr/>
          </p:nvGrpSpPr>
          <p:grpSpPr>
            <a:xfrm>
              <a:off x="4876920" y="4115520"/>
              <a:ext cx="804960" cy="667800"/>
              <a:chOff x="4876920" y="4115520"/>
              <a:chExt cx="804960" cy="667800"/>
            </a:xfrm>
          </p:grpSpPr>
          <p:sp>
            <p:nvSpPr>
              <p:cNvPr id="95" name=""/>
              <p:cNvSpPr/>
              <p:nvPr/>
            </p:nvSpPr>
            <p:spPr>
              <a:xfrm>
                <a:off x="4876920" y="4115520"/>
                <a:ext cx="804960" cy="585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90760" y="4697640"/>
                <a:ext cx="376560" cy="47880"/>
              </a:xfrm>
              <a:custGeom>
                <a:avLst/>
                <a:gdLst>
                  <a:gd name="textAreaLeft" fmla="*/ 64800 w 376560"/>
                  <a:gd name="textAreaRight" fmla="*/ 311760 w 376560"/>
                  <a:gd name="textAreaTop" fmla="*/ 8280 h 47880"/>
                  <a:gd name="textAreaBottom" fmla="*/ 39600 h 4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52" y="21600"/>
                    </a:lnTo>
                    <a:lnTo>
                      <a:pt x="354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7979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68720" y="4745880"/>
                <a:ext cx="620640" cy="374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f9f9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24080" y="4165920"/>
                <a:ext cx="709920" cy="4708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15151"/>
                  </a:gs>
                </a:gsLst>
                <a:lin ang="1080000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740200" y="4030560"/>
              <a:ext cx="253800" cy="754200"/>
              <a:chOff x="5740200" y="4030560"/>
              <a:chExt cx="253800" cy="754200"/>
            </a:xfrm>
          </p:grpSpPr>
          <p:sp>
            <p:nvSpPr>
              <p:cNvPr id="100" name=""/>
              <p:cNvSpPr/>
              <p:nvPr/>
            </p:nvSpPr>
            <p:spPr>
              <a:xfrm>
                <a:off x="5740200" y="4032720"/>
                <a:ext cx="253800" cy="7509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86640" y="4080240"/>
                <a:ext cx="38880" cy="423360"/>
              </a:xfrm>
              <a:prstGeom prst="rect">
                <a:avLst/>
              </a:prstGeom>
              <a:solidFill>
                <a:srgbClr val="5f5f5f"/>
              </a:solidFill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86640" y="4547160"/>
                <a:ext cx="38880" cy="194040"/>
              </a:xfrm>
              <a:prstGeom prst="rect">
                <a:avLst/>
              </a:prstGeom>
              <a:solidFill>
                <a:srgbClr val="5f5f5f"/>
              </a:solidFill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02200" y="4094280"/>
                <a:ext cx="49680" cy="4788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42800" y="4030560"/>
                <a:ext cx="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73840" y="4030560"/>
                <a:ext cx="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59480" y="4935600"/>
            <a:ext cx="85896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33880" y="4968720"/>
            <a:ext cx="831960" cy="982800"/>
          </a:xfrm>
          <a:prstGeom prst="rect">
            <a:avLst/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3360" y="5186520"/>
            <a:ext cx="874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ＷＥ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事務次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05440" y="5200560"/>
            <a:ext cx="533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76600" y="5200560"/>
            <a:ext cx="533520" cy="2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94200" y="5200560"/>
            <a:ext cx="53316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21200" y="5578560"/>
            <a:ext cx="525240" cy="19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498920" y="5567400"/>
            <a:ext cx="52380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935680" y="5540400"/>
            <a:ext cx="525600" cy="2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3092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46440" y="4973760"/>
            <a:ext cx="812880" cy="982440"/>
            <a:chOff x="3646440" y="4973760"/>
            <a:chExt cx="812880" cy="982440"/>
          </a:xfrm>
        </p:grpSpPr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>
              <a:off x="3646440" y="4973760"/>
              <a:ext cx="8128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029120" y="5238000"/>
              <a:ext cx="17496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16080" y="4973760"/>
            <a:ext cx="976320" cy="1020600"/>
            <a:chOff x="2116080" y="4973760"/>
            <a:chExt cx="976320" cy="1020600"/>
          </a:xfrm>
        </p:grpSpPr>
        <p:grpSp>
          <p:nvGrpSpPr>
            <p:cNvPr id="120" name=""/>
            <p:cNvGrpSpPr/>
            <p:nvPr/>
          </p:nvGrpSpPr>
          <p:grpSpPr>
            <a:xfrm>
              <a:off x="2116080" y="4973760"/>
              <a:ext cx="976320" cy="1020600"/>
              <a:chOff x="2116080" y="4973760"/>
              <a:chExt cx="976320" cy="1020600"/>
            </a:xfrm>
          </p:grpSpPr>
          <p:pic>
            <p:nvPicPr>
              <p:cNvPr id="12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16080" y="4973760"/>
                <a:ext cx="976320" cy="10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221560" y="5072040"/>
                <a:ext cx="750600" cy="78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15160" y="5134320"/>
                <a:ext cx="586440" cy="67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2564640" y="5323320"/>
              <a:ext cx="13104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0208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2112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21120" y="57736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売上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見積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2720" y="576432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30920" y="575460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680" y="3924360"/>
            <a:ext cx="937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0560" y="41148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データの流れ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981000"/>
            <a:ext cx="3390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販売大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  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売上・仕入伝票確認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倉庫移動伝票確認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棚卸伝票確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出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受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確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1E0-F989-4BEC-B9BF-F91051A53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伝票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6855120" cy="483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84880" y="2349360"/>
            <a:ext cx="2076480" cy="1724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232160" y="2924280"/>
            <a:ext cx="1081080" cy="504720"/>
          </a:xfrm>
          <a:prstGeom prst="rightArrow">
            <a:avLst>
              <a:gd name="adj1" fmla="val 50000"/>
              <a:gd name="adj2" fmla="val 5354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2880" y="5516640"/>
            <a:ext cx="928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確認、変更を行い、販売大臣に売上伝票として登録するのに問題が無い場合は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すべて大臣に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確認のメッセージが表示され、はいを選ぶと登録が行わ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選択した伝票を大臣に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現在選んでいる伝票データが登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76880" y="5084640"/>
            <a:ext cx="1800000" cy="50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49240" y="2421000"/>
            <a:ext cx="3095640" cy="1724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15800" y="126828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787-B032-443A-9583-1AE6D51A5E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6783480" cy="47847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信したデ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0160" y="5589720"/>
            <a:ext cx="94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したデータは、処理済のタブを選ぶと、そこで一覧で表示されます。伝票をダブルクリックすると、詳細を見ることが出来ます。（編集は出来ませ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F65-C2CF-4AB1-839D-B3906017FE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見積伝票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6755040" cy="4784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448160" y="98100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952880" y="2347920"/>
            <a:ext cx="1008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3360" y="323856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65600" y="2924280"/>
            <a:ext cx="424836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32160" y="4941720"/>
            <a:ext cx="93672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5800" y="558972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見積伝票データ変換ボタンを押す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出力された見積のデータを、販売大臣に登録するのに適した形式に変換し、出力しなおします。その際は、大臣設定の四角で囲った欄で指定された場所、名前で出力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511-5CE8-4F2E-AE2F-5F610997FA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81240" y="98100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スクトップのこのアイコンをダブルクリックして、販売大臣を起動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065240" y="1628640"/>
            <a:ext cx="7129440" cy="2957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281240" y="335772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5800" y="501336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を開くと、データ選択の画面が開かれますので、開きたいデータを選び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キーを押すか、上の決定ボタンを押して、データを開い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16880" y="1844640"/>
            <a:ext cx="50472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4E4-8A67-40FF-AC70-90F1FD4C7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売上伝票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7417080" cy="4954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360520" y="2205000"/>
            <a:ext cx="4381560" cy="3432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31800" y="1844640"/>
            <a:ext cx="201780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39800" y="2276640"/>
            <a:ext cx="720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0160" y="5680080"/>
            <a:ext cx="94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売上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日常処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・発行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売上・受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仕入伝票の確認の際には、その下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仕入・発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E2C-770E-4147-8061-68DCC119B2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売上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81240" y="765000"/>
            <a:ext cx="7159320" cy="4784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2880" y="566100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36880" y="1413000"/>
            <a:ext cx="936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5C2-33F6-4B92-A629-01C9D5E81D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倉庫振替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00160" y="836640"/>
            <a:ext cx="6913440" cy="4633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152880" y="1628640"/>
            <a:ext cx="4381560" cy="2575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0520" y="4653000"/>
            <a:ext cx="18716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40160" y="2133720"/>
            <a:ext cx="172872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0160" y="5680080"/>
            <a:ext cx="94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倉庫振替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間移動伝票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639800" y="2349000"/>
            <a:ext cx="1800360" cy="230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ACA-7624-41ED-84C8-4253800B8E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倉庫振替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36520" y="836640"/>
            <a:ext cx="7137360" cy="4784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2880" y="566100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92520" y="1484280"/>
            <a:ext cx="8650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E76-B98D-4AA7-BA60-FC2FAA1D68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棚卸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08160" y="1125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496880" y="4869000"/>
            <a:ext cx="18716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448160" y="1052640"/>
            <a:ext cx="4381560" cy="2574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>
            <a:off x="2576520" y="2492280"/>
            <a:ext cx="410544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24520" y="2276640"/>
            <a:ext cx="172908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0160" y="5680080"/>
            <a:ext cx="94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倉庫振替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棚卸入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D69-B262-4B0D-B7C7-DC2A28FA1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棚卸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352520" y="836640"/>
            <a:ext cx="7137360" cy="4784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592520" y="2421000"/>
            <a:ext cx="2665440" cy="2879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49600" y="580536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棚卸日、実残が書き換わっていることを確かめ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EF6-89B7-4E0B-947B-5E95477529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84520" y="1989000"/>
            <a:ext cx="6121080" cy="2783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4520" y="1197000"/>
            <a:ext cx="920880" cy="92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84520" y="12682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のアイコンをダブルクリックすると、プログラムが起動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42380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4880" y="5229360"/>
            <a:ext cx="885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動すると、販売大臣のデータの選択画面が出ますの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が複数ある場合は、使用するデータを選択し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キャンセ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プログラムが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10C-8C1A-4107-9943-AC0E3667A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出力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7128000" cy="4762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44520" y="1268280"/>
            <a:ext cx="3941640" cy="2316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384880" y="981000"/>
            <a:ext cx="3456000" cy="3427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936880" y="4437000"/>
            <a:ext cx="2016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5800" y="1771560"/>
            <a:ext cx="1800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216160" y="2205000"/>
            <a:ext cx="1008000" cy="20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0520" y="1989000"/>
            <a:ext cx="324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0160" y="5516640"/>
            <a:ext cx="94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繰越・特殊処理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の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データ入出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伝票データ作成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・在庫関連・倉庫間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タブ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伝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チェックをし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指定した場所に見積伝票のデータが出力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では、この出力されたデータを元に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53240" y="4149720"/>
            <a:ext cx="720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1A8-1018-402F-A2E7-B96F566548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73040" y="692280"/>
            <a:ext cx="7128000" cy="4762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受入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44520" y="981000"/>
            <a:ext cx="4381560" cy="2575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137040" y="4437000"/>
            <a:ext cx="2016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5960" y="1771560"/>
            <a:ext cx="1800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16320" y="2205000"/>
            <a:ext cx="1008000" cy="20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384880" y="836640"/>
            <a:ext cx="4381560" cy="30463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649600" y="1989000"/>
            <a:ext cx="2519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0160" y="5157720"/>
            <a:ext cx="957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の出力と同様に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入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、先ほど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伝票データ作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すぐ下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受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、右画面を開きます。下の方へ移動すると、見積伝票の受信のチェック欄がありますので、チェックをして、受入元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で指定した出力先のパス、ファイル名と同じにして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入開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77240" y="3573360"/>
            <a:ext cx="792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1E5-2CE5-4300-AD0A-B69A0B2F1F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44520" y="836640"/>
            <a:ext cx="6553080" cy="4378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440160" y="2421000"/>
            <a:ext cx="4381560" cy="20016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31800" y="1916280"/>
            <a:ext cx="18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2852640"/>
            <a:ext cx="187164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00160" y="2205000"/>
            <a:ext cx="1584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0160" y="5661000"/>
            <a:ext cx="94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から送信した見積データを確認したい場合は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常処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入力・発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入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26B-D73F-4827-A0AC-E9D3DB356F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見積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92160" y="765000"/>
            <a:ext cx="7488360" cy="5004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82600" y="568152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20880" y="1484280"/>
            <a:ext cx="936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AD7-18C4-4512-8890-8534CDEE16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5975280" cy="4214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次官―トップ画面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2520" y="5300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動してすぐに表示される画面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終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プログラムが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5800" y="1052640"/>
            <a:ext cx="180036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1197000"/>
            <a:ext cx="34574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ファイ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終了・・・プログラムを終了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メンテナン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担当者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担当者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得意先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得意先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仕入先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仕入先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倉庫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倉庫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現場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現場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部門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商品分類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カタログ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商品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規定値・・・設定を行い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大臣設定・・・設定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得意先残更新・・・大臣から売掛残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在庫更新・・・大臣から商品在庫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見積伝票更新・・・大臣から見積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売上伝票更新・・・大臣から売上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仕入伝票更新・・・大臣から仕入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C27-8F19-4B69-87DC-DDBB7083F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担当者・現場・倉庫・仕入先・商品部門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5800" y="1268280"/>
            <a:ext cx="5551560" cy="4548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05600" y="1557360"/>
            <a:ext cx="3384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応研・販売大臣に登録されている担当者一覧から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使用したい担当者を選択し、ダブルクリックする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使用する担当者一覧に追加さ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から担当者を減らしたい場合は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担当者一覧から、減らしたい担当者を選択し、ダブルクリックしてください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担当者一覧から、選択した担当者がなく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変更を行った場合は、サーバーを更新してください。しない場合は、マスタは変更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4520" y="692280"/>
            <a:ext cx="89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担当者・現場・倉庫・仕入先・商品部門のメンテナンス処理は同じですので、担当者で説明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8880" y="5013360"/>
            <a:ext cx="1440000" cy="72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694-251C-4D46-B433-3AB798834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得意先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7048800" cy="4784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16520" y="1413000"/>
            <a:ext cx="3024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4524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された得意先の検索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040160" y="155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28880" y="4941720"/>
            <a:ext cx="136872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73960" y="47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された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68880" y="5084640"/>
            <a:ext cx="22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4941720"/>
            <a:ext cx="122400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0160" y="580536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変更を行った場合は、サーバーを更新し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1365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DAD-2852-44AA-8E60-7A2F8F81AE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得意先の選択、選択解除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2880" y="836640"/>
            <a:ext cx="4381560" cy="269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52880" y="3284640"/>
            <a:ext cx="4381560" cy="269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08520" y="1197000"/>
            <a:ext cx="47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送りたい得意先をダブルクリックすると、左画像のような画面が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得意先は登録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この得意先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送ら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0160" y="4365720"/>
            <a:ext cx="46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消したい得意先をダブルクリックすると、右画像のような画面が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このデータ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残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開しないボタンを押すと、このデータ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なく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32520" y="5445000"/>
            <a:ext cx="1008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8B5-D609-4E35-8656-4262E95B6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15800" y="907920"/>
            <a:ext cx="6853320" cy="478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16520" y="1413000"/>
            <a:ext cx="3024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524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された商品の検索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7040160" y="155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16520" y="4941720"/>
            <a:ext cx="1081080" cy="35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73960" y="47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された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8880" y="5084640"/>
            <a:ext cx="22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4520" y="5229360"/>
            <a:ext cx="122400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0160" y="602136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変更を行った場合は、サーバーを更新し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136520" y="57340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B72-DF19-4D58-A70C-A03CAE199A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（商品登録）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5800" y="907920"/>
            <a:ext cx="6853320" cy="4784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168880" y="4941720"/>
            <a:ext cx="1728720" cy="28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8880" y="5013360"/>
            <a:ext cx="3168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9760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45240" y="2492280"/>
            <a:ext cx="20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ダブルクリックして商品を登録する際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後尾に追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するか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選んでいる商品の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登録するか選択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した順番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520" y="5805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を登録した後に順番を変える場合は、このボタンを使用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リストから削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選ぶ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その商品が削除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448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440-4197-4DED-B5C4-A8DC21B63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3:00:16Z</dcterms:created>
  <dc:creator>IMP</dc:creator>
  <dc:description/>
  <dc:language>en-US</dc:language>
  <cp:lastModifiedBy>momota</cp:lastModifiedBy>
  <dcterms:modified xsi:type="dcterms:W3CDTF">2012-05-28T02:16:29Z</dcterms:modified>
  <cp:revision>333</cp:revision>
  <dc:subject/>
  <dc:title>PowerPoint プレゼンテーション</dc:title>
</cp:coreProperties>
</file>